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75370-AE86-45C9-8A31-D365870BD5A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195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egnaposto numero diapositiva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FD8A2-DA6E-4376-9F16-DAFE9651FA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195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63432-55C9-423E-BB41-A1A26C273CF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195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BF116-9CDE-4586-9065-B753CBA8C8F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8F0-E13E-487A-B1DF-86904C64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AAE-EC3C-4417-8EF7-03688FD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C4F-3444-4324-A43B-C04DAF5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301-D0FD-40D5-A9C7-98D875D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996-56FB-413C-BDDA-0872D571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E00-1DAD-4257-9AFA-5BBB100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AC00-06C5-4F5C-967A-5D4425C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892-CD16-4CEB-BAE0-06D4678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A3F-E906-43E9-9526-5F77FB5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C88-29D3-4616-8478-FFC4C265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5AB2-6E66-42E7-8CA0-B224541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281-99A9-4794-BD4B-DF903D0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29D-6486-4AD7-A48C-2C976F1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0683-5576-444D-B190-BE1A853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2982-00CF-42F8-8E27-8D1D333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A30-CDA2-43BB-9968-AB9D6BA1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4BA3-87DA-45A3-9DA4-FB6D1B1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1B88-306E-4F4D-BE65-21CB2B67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D4F6-9321-4C3D-ADE5-FC5D0CF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3F02-29BD-4C9F-8745-1F33480A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629C-12F2-458F-93AC-0CF12237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6FD4-9178-4B5B-81A2-6B3DB562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1E4-6A2E-4780-A155-CF7367F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4E71-DDC0-4B5E-9204-1D5092A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0B87-6A1B-49DA-A894-C53DDAE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A186-BA32-4D60-9327-AE8466B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D240-FD30-490D-BC91-F3DF49C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F419-F0D0-44B0-B24B-1706161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DBCB-6AF9-4401-BFFF-3DE4FAE5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EE8C-B117-4A4B-B0B9-CBCFE6A0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67A1-5F45-4E1D-9349-6090B13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11A1-5DB1-4F18-923F-CC24A03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502D-1BBE-4F21-A8A0-5F56A0F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692-4A87-4C81-ADAA-DEE6ABA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DD58-0B03-4E9A-B5A1-D5CA6F3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770E-D7FE-4F2C-9BD4-927331BA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5264-7A0B-4E0E-A29A-15C4EC2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9ECE-B189-467D-9E67-20921CF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88508-7A1E-4D9B-B263-B47D0B9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112B-AF73-4766-9BF1-CE49DDD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1CE0-7D83-41BC-822A-79A1B2C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5EB0-3DE0-4FC4-B793-3A991FF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965F-DA8E-4738-8F4E-309A94F5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D490-5D4D-4CFB-8A88-EA34E13B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43E-138B-4617-A973-F27FF5A5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FDB76-047C-4297-AC37-2451EAE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EACF-560D-484C-B4F6-1B1F9EE7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C7C36-9F1D-4F38-823E-DA537886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F3CF-62C3-46D1-A7CC-EDF75CB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0BE62-0954-4C0C-B4D7-007DD45D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435E3-DD26-413E-9FAB-443B4D8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6FB9-1EF5-440C-A678-AD4E989A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803C-630C-4381-8028-316728A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31AE-AA7D-47E4-8C9C-3CCDA41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4ADE-B702-44C3-9C77-7DD74089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B09-18D2-4A92-B197-1177C77C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70FB-2922-4AEB-B179-E7C5C87E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08EE-114C-4E8D-A207-38B20227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A6D9-8A6E-422F-AEEB-6545963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9452-1F6F-45DA-828D-6BA99E5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D55C-C966-45D0-899C-2F5C93DF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F78B-74BE-40ED-B734-1BF4F64A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6841-BDB5-42F3-8966-48F2E29A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5AFD-5AFF-4464-BCA5-593E275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16EE-7D77-4748-B92D-6B469AEC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5BE7-141A-4F4F-89C9-469954C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90F-2DBB-4BA9-86A0-F39253E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2629B-785B-4454-8109-C411E39A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DB668-4E5D-42AD-BEC5-28EB78E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E9D3-490A-4223-842C-163710F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4102-4631-46B1-A532-DBFB812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3477-0777-404E-89F6-05B8612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EB21-4605-495E-A1F5-2DD19D4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71BC-25CA-40D0-96B4-EFAED33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E424-A1C9-4586-96B5-5141063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6715-C395-4814-85CB-83FBE5D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34DB-5A5B-4269-A267-F7237D8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BAD-038A-478E-B8E5-FC32951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A75A-D780-4DB6-B4DF-E3EB998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46D2-CE60-41D0-95AE-E06FC01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4E10-7A97-43C1-B233-AE391DE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6AD6-8385-40D6-A69F-3AB6D6F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F4F25-32F1-4929-A687-4CA047E9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0D5-3243-4A7F-B9F6-DAB325D8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F8F4-69E5-4311-B2AC-165ADAFA3620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0EB-A2B1-4245-A71D-7BB6E757BE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Connettore 1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allone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9E5-5E13-472E-8C55-E726E5928BC6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C26-40CD-4668-B7CC-6579C15DAF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E1B-3DA4-4968-8044-AA58A676AE98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6383-CEF2-4549-A5A7-FCEF1826E5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E2D-623B-4259-8FD6-3C481FCF573E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32F-CC6D-495A-A055-8DAF43D6B4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7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Connettore 1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DB5-9EDA-4E18-8827-B332197E4312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A891-AA75-4F5E-8BF4-9F1057FBE1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4081-E801-477C-B324-1EA82F7BA56A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A08-2797-4B2F-9F9E-0A3643C242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Triangolo rettangolo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Triangolo rettangolo 15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Connettore 1 1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Gallone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Gallone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0F47-1704-4E85-A385-BEE0EA09AADF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D815-7842-449F-B8F2-5D375FAFC4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ttangolo 1"/>
          <p:cNvSpPr/>
          <p:nvPr/>
        </p:nvSpPr>
        <p:spPr>
          <a:xfrm>
            <a:off x="324000" y="620640"/>
            <a:ext cx="8351640" cy="42483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F77-7735-42DA-B2EF-F8CC6A0E87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asellaDiTesto 2"/>
          <p:cNvSpPr/>
          <p:nvPr/>
        </p:nvSpPr>
        <p:spPr>
          <a:xfrm>
            <a:off x="826920" y="1413000"/>
            <a:ext cx="7632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CONTRATTO DI SERVIZI PER ANZ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99"/>
                </a:solidFill>
                <a:latin typeface="Arial"/>
              </a:rPr>
              <a:t>RELAZIONE II SEMESTRE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Arial"/>
              </a:rPr>
              <a:t>(ex art. 12, comma 4,  Regolamento di disciplina dei controlli inter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ttangolo 1"/>
          <p:cNvSpPr/>
          <p:nvPr/>
        </p:nvSpPr>
        <p:spPr>
          <a:xfrm>
            <a:off x="826920" y="2463840"/>
            <a:ext cx="690264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E4DE-A1E7-4795-95F2-D69A61F96E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asellaDiTesto 3"/>
          <p:cNvSpPr/>
          <p:nvPr/>
        </p:nvSpPr>
        <p:spPr>
          <a:xfrm>
            <a:off x="826920" y="1125360"/>
            <a:ext cx="718200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Esito riunioni period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e 6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D7E-36E4-440F-9549-6DE024CBDB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455400" y="136440"/>
            <a:ext cx="2117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53960" y="765000"/>
            <a:ext cx="8064720" cy="47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Breve sintesi iniz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Governance gestionale (tra Comune e ente gest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LA (requisiti soggettivi e strutturali, attività gestio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LA manutenzione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Gestione recl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ustomer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da conto econo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Fattori evolutivi (affinamento e roll out):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vere tutti i dati (eliminando tutti gli n.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verificare la fonte dei d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ocesso dei reclami (verifica provenien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rodaggio dell’indicatore sint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e 5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08C9-46C8-47B2-9338-4EC9668973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380-1412-4CCD-BC25-A44B2CE502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57200" y="136440"/>
            <a:ext cx="296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8640" y="817560"/>
          <a:ext cx="8372520" cy="5083200"/>
        </p:xfrm>
        <a:graphic>
          <a:graphicData uri="http://schemas.openxmlformats.org/drawingml/2006/table">
            <a:tbl>
              <a:tblPr/>
              <a:tblGrid>
                <a:gridCol w="1836720"/>
                <a:gridCol w="4113360"/>
                <a:gridCol w="242244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O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UDI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041560"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Governance gestionale (rispetto della fornitura da parte del gestore dei dati e dei tempi di trasmissio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Il fornitore ha trasmesso i dati richiesti nei tempi compatibili con i propri adempimenti di bilancio e secondo le richieste dell’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LA soggetti a controllo di enti ter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Vigilanza ATS per alcune strutture,  qualche rilievo su Arici 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LA soggetti a controllo comu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ivello dell’attività valutato ad oggi buono per gestione ingressi, indici di saturazione, tutela privacy, od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lcune criticità legate alla gestione degli ingressi di ospiti comunali rispetto alla lista d’att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CasellaDiTesto 4"/>
          <p:cNvSpPr/>
          <p:nvPr/>
        </p:nvSpPr>
        <p:spPr>
          <a:xfrm>
            <a:off x="684360" y="47628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asellaDiTesto 3"/>
          <p:cNvSpPr/>
          <p:nvPr/>
        </p:nvSpPr>
        <p:spPr>
          <a:xfrm>
            <a:off x="8028000" y="398304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e 3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37E-98F0-447A-8102-F6B4C652C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0"/>
          <p:cNvGrpSpPr/>
          <p:nvPr/>
        </p:nvGrpSpPr>
        <p:grpSpPr>
          <a:xfrm>
            <a:off x="6791400" y="1655640"/>
            <a:ext cx="1655280" cy="1215360"/>
            <a:chOff x="6791400" y="1655640"/>
            <a:chExt cx="1655280" cy="1215360"/>
          </a:xfrm>
        </p:grpSpPr>
        <p:sp>
          <p:nvSpPr>
            <p:cNvPr id="398" name="Rectangle 31"/>
            <p:cNvSpPr/>
            <p:nvPr/>
          </p:nvSpPr>
          <p:spPr>
            <a:xfrm>
              <a:off x="6791400" y="1787760"/>
              <a:ext cx="165528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32"/>
            <p:cNvGrpSpPr/>
            <p:nvPr/>
          </p:nvGrpSpPr>
          <p:grpSpPr>
            <a:xfrm>
              <a:off x="6849000" y="1655640"/>
              <a:ext cx="1541880" cy="1215360"/>
              <a:chOff x="6849000" y="1655640"/>
              <a:chExt cx="1541880" cy="1215360"/>
            </a:xfrm>
          </p:grpSpPr>
          <p:sp>
            <p:nvSpPr>
              <p:cNvPr id="400" name="Text Box 33"/>
              <p:cNvSpPr/>
              <p:nvPr/>
            </p:nvSpPr>
            <p:spPr>
              <a:xfrm>
                <a:off x="6849000" y="207540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34"/>
              <p:cNvSpPr/>
              <p:nvPr/>
            </p:nvSpPr>
            <p:spPr>
              <a:xfrm>
                <a:off x="8133120" y="209052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35"/>
              <p:cNvSpPr/>
              <p:nvPr/>
            </p:nvSpPr>
            <p:spPr>
              <a:xfrm>
                <a:off x="7615800" y="2261520"/>
                <a:ext cx="48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6"/>
              <p:cNvSpPr/>
              <p:nvPr/>
            </p:nvSpPr>
            <p:spPr>
              <a:xfrm>
                <a:off x="7036920" y="1655640"/>
                <a:ext cx="1137600" cy="1215360"/>
              </a:xfrm>
              <a:custGeom>
                <a:avLst/>
                <a:gdLst>
                  <a:gd name="textAreaLeft" fmla="*/ 0 w 1137600"/>
                  <a:gd name="textAreaRight" fmla="*/ 1137600 w 1137600"/>
                  <a:gd name="textAreaTop" fmla="*/ 0 h 1215360"/>
                  <a:gd name="textAreaBottom" fmla="*/ 454320 h 121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CasellaDiTesto 46"/>
          <p:cNvSpPr/>
          <p:nvPr/>
        </p:nvSpPr>
        <p:spPr>
          <a:xfrm>
            <a:off x="8028000" y="2489040"/>
            <a:ext cx="50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0"/>
          <p:cNvSpPr/>
          <p:nvPr/>
        </p:nvSpPr>
        <p:spPr>
          <a:xfrm>
            <a:off x="900000" y="5897520"/>
            <a:ext cx="78487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1"/>
          <p:cNvSpPr/>
          <p:nvPr/>
        </p:nvSpPr>
        <p:spPr>
          <a:xfrm>
            <a:off x="755640" y="5897520"/>
            <a:ext cx="77770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*acquisizione parziale di dati in termini non strutturati. Da programmare attività del nucleo di controllo, attraverso la predisposizione di una check list che consenta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valutazione più puntu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sellaDiTesto 46"/>
          <p:cNvSpPr/>
          <p:nvPr/>
        </p:nvSpPr>
        <p:spPr>
          <a:xfrm flipV="1" rot="10800000">
            <a:off x="7930800" y="3979800"/>
            <a:ext cx="8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,8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0"/>
          <p:cNvGrpSpPr/>
          <p:nvPr/>
        </p:nvGrpSpPr>
        <p:grpSpPr>
          <a:xfrm>
            <a:off x="6800760" y="4413240"/>
            <a:ext cx="1655640" cy="1080360"/>
            <a:chOff x="6800760" y="4413240"/>
            <a:chExt cx="1655640" cy="1080360"/>
          </a:xfrm>
        </p:grpSpPr>
        <p:sp>
          <p:nvSpPr>
            <p:cNvPr id="409" name="Rectangle 31"/>
            <p:cNvSpPr/>
            <p:nvPr/>
          </p:nvSpPr>
          <p:spPr>
            <a:xfrm>
              <a:off x="6800760" y="4530600"/>
              <a:ext cx="165564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32"/>
            <p:cNvGrpSpPr/>
            <p:nvPr/>
          </p:nvGrpSpPr>
          <p:grpSpPr>
            <a:xfrm>
              <a:off x="6858360" y="4413240"/>
              <a:ext cx="1541880" cy="1080360"/>
              <a:chOff x="6858360" y="4413240"/>
              <a:chExt cx="1541880" cy="1080360"/>
            </a:xfrm>
          </p:grpSpPr>
          <p:sp>
            <p:nvSpPr>
              <p:cNvPr id="411" name="Text Box 33"/>
              <p:cNvSpPr/>
              <p:nvPr/>
            </p:nvSpPr>
            <p:spPr>
              <a:xfrm>
                <a:off x="6858360" y="478656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4"/>
              <p:cNvSpPr/>
              <p:nvPr/>
            </p:nvSpPr>
            <p:spPr>
              <a:xfrm>
                <a:off x="8142480" y="479988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5"/>
              <p:cNvSpPr/>
              <p:nvPr/>
            </p:nvSpPr>
            <p:spPr>
              <a:xfrm flipV="1">
                <a:off x="7625160" y="4799520"/>
                <a:ext cx="467280" cy="151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36"/>
              <p:cNvSpPr/>
              <p:nvPr/>
            </p:nvSpPr>
            <p:spPr>
              <a:xfrm>
                <a:off x="7046280" y="4413240"/>
                <a:ext cx="1137600" cy="1080360"/>
              </a:xfrm>
              <a:custGeom>
                <a:avLst/>
                <a:gdLst>
                  <a:gd name="textAreaLeft" fmla="*/ 0 w 1137600"/>
                  <a:gd name="textAreaRight" fmla="*/ 1137600 w 1137600"/>
                  <a:gd name="textAreaTop" fmla="*/ 0 h 1080360"/>
                  <a:gd name="textAreaBottom" fmla="*/ 403920 h 108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30"/>
          <p:cNvGrpSpPr/>
          <p:nvPr/>
        </p:nvGrpSpPr>
        <p:grpSpPr>
          <a:xfrm>
            <a:off x="6815160" y="3236760"/>
            <a:ext cx="1748520" cy="1215360"/>
            <a:chOff x="6815160" y="3236760"/>
            <a:chExt cx="1748520" cy="1215360"/>
          </a:xfrm>
        </p:grpSpPr>
        <p:sp>
          <p:nvSpPr>
            <p:cNvPr id="416" name="Rectangle 31"/>
            <p:cNvSpPr/>
            <p:nvPr/>
          </p:nvSpPr>
          <p:spPr>
            <a:xfrm>
              <a:off x="6815160" y="3368880"/>
              <a:ext cx="165600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32"/>
            <p:cNvGrpSpPr/>
            <p:nvPr/>
          </p:nvGrpSpPr>
          <p:grpSpPr>
            <a:xfrm>
              <a:off x="6872760" y="3236760"/>
              <a:ext cx="1690920" cy="1215360"/>
              <a:chOff x="6872760" y="3236760"/>
              <a:chExt cx="1690920" cy="1215360"/>
            </a:xfrm>
          </p:grpSpPr>
          <p:sp>
            <p:nvSpPr>
              <p:cNvPr id="418" name="Text Box 33"/>
              <p:cNvSpPr/>
              <p:nvPr/>
            </p:nvSpPr>
            <p:spPr>
              <a:xfrm>
                <a:off x="6872760" y="365652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34"/>
              <p:cNvSpPr/>
              <p:nvPr/>
            </p:nvSpPr>
            <p:spPr>
              <a:xfrm>
                <a:off x="8144640" y="3696840"/>
                <a:ext cx="41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 flipV="1">
                <a:off x="7639560" y="3671640"/>
                <a:ext cx="503280" cy="17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36"/>
              <p:cNvSpPr/>
              <p:nvPr/>
            </p:nvSpPr>
            <p:spPr>
              <a:xfrm>
                <a:off x="7060680" y="3236760"/>
                <a:ext cx="1137600" cy="1215360"/>
              </a:xfrm>
              <a:custGeom>
                <a:avLst/>
                <a:gdLst>
                  <a:gd name="textAreaLeft" fmla="*/ 0 w 1137600"/>
                  <a:gd name="textAreaRight" fmla="*/ 1137600 w 1137600"/>
                  <a:gd name="textAreaTop" fmla="*/ 0 h 1215360"/>
                  <a:gd name="textAreaBottom" fmla="*/ 454320 h 121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BBD-77A4-4BC5-BA3A-7C22A2B243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57200" y="136440"/>
            <a:ext cx="296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92040" y="895320"/>
          <a:ext cx="8363160" cy="4811760"/>
        </p:xfrm>
        <a:graphic>
          <a:graphicData uri="http://schemas.openxmlformats.org/drawingml/2006/table">
            <a:tbl>
              <a:tblPr/>
              <a:tblGrid>
                <a:gridCol w="2036880"/>
                <a:gridCol w="4051080"/>
                <a:gridCol w="227520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O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UDI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LA soggetti a controllo interno della Fond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on rilevati</a:t>
                      </a:r>
                      <a:r>
                        <a:rPr b="1" lang="it-IT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LA manutenzione ordin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Effettuate regolarmente la manutenzione predittive  ed alcune manutenzioni straordinarie preventiv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Gestione recl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ttivato un apposito protocollo per la gestione dei disserviz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ono pervenuti 8 reclami in varie strutture, per i quali si è intervenuti con i dovuti interventi di verifica e corrett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CasellaDiTesto 4"/>
          <p:cNvSpPr/>
          <p:nvPr/>
        </p:nvSpPr>
        <p:spPr>
          <a:xfrm>
            <a:off x="684360" y="47628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sellaDiTesto 3"/>
          <p:cNvSpPr/>
          <p:nvPr/>
        </p:nvSpPr>
        <p:spPr>
          <a:xfrm>
            <a:off x="8028000" y="398304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e 3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A255-9368-4341-9A09-12E6F5F329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asellaDiTesto 46"/>
          <p:cNvSpPr/>
          <p:nvPr/>
        </p:nvSpPr>
        <p:spPr>
          <a:xfrm>
            <a:off x="7999560" y="5229360"/>
            <a:ext cx="59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,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9"/>
          <p:cNvSpPr/>
          <p:nvPr/>
        </p:nvSpPr>
        <p:spPr>
          <a:xfrm flipV="1" rot="10800000">
            <a:off x="1028880" y="5974920"/>
            <a:ext cx="6992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*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Da codificare visite ispettive e relativi verbali, attraverso la predisposi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</a:rPr>
              <a:t>una check list che consenta una  valutazione più puntu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sellaDiTesto 46"/>
          <p:cNvSpPr/>
          <p:nvPr/>
        </p:nvSpPr>
        <p:spPr>
          <a:xfrm flipV="1" rot="10800000">
            <a:off x="8107200" y="311148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0"/>
          <p:cNvGrpSpPr/>
          <p:nvPr/>
        </p:nvGrpSpPr>
        <p:grpSpPr>
          <a:xfrm>
            <a:off x="6811920" y="4087800"/>
            <a:ext cx="1774440" cy="1442160"/>
            <a:chOff x="6811920" y="4087800"/>
            <a:chExt cx="1774440" cy="1442160"/>
          </a:xfrm>
        </p:grpSpPr>
        <p:sp>
          <p:nvSpPr>
            <p:cNvPr id="434" name="Rectangle 31"/>
            <p:cNvSpPr/>
            <p:nvPr/>
          </p:nvSpPr>
          <p:spPr>
            <a:xfrm>
              <a:off x="6811920" y="4255920"/>
              <a:ext cx="17744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2"/>
            <p:cNvGrpSpPr/>
            <p:nvPr/>
          </p:nvGrpSpPr>
          <p:grpSpPr>
            <a:xfrm>
              <a:off x="6873480" y="4087800"/>
              <a:ext cx="1691280" cy="1442160"/>
              <a:chOff x="6873480" y="4087800"/>
              <a:chExt cx="1691280" cy="1442160"/>
            </a:xfrm>
          </p:grpSpPr>
          <p:sp>
            <p:nvSpPr>
              <p:cNvPr id="436" name="Text Box 33"/>
              <p:cNvSpPr/>
              <p:nvPr/>
            </p:nvSpPr>
            <p:spPr>
              <a:xfrm>
                <a:off x="6873480" y="4586040"/>
                <a:ext cx="27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34"/>
              <p:cNvSpPr/>
              <p:nvPr/>
            </p:nvSpPr>
            <p:spPr>
              <a:xfrm>
                <a:off x="8288280" y="4586040"/>
                <a:ext cx="27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5"/>
              <p:cNvSpPr/>
              <p:nvPr/>
            </p:nvSpPr>
            <p:spPr>
              <a:xfrm flipV="1">
                <a:off x="7695360" y="4585680"/>
                <a:ext cx="399240" cy="22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36"/>
              <p:cNvSpPr/>
              <p:nvPr/>
            </p:nvSpPr>
            <p:spPr>
              <a:xfrm>
                <a:off x="7074720" y="4087800"/>
                <a:ext cx="1219320" cy="144216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442160"/>
                  <a:gd name="textAreaBottom" fmla="*/ 538920 h 144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30"/>
          <p:cNvGrpSpPr/>
          <p:nvPr/>
        </p:nvGrpSpPr>
        <p:grpSpPr>
          <a:xfrm>
            <a:off x="6808680" y="2349360"/>
            <a:ext cx="1655640" cy="1339200"/>
            <a:chOff x="6808680" y="2349360"/>
            <a:chExt cx="1655640" cy="1339200"/>
          </a:xfrm>
        </p:grpSpPr>
        <p:sp>
          <p:nvSpPr>
            <p:cNvPr id="441" name="Rectangle 31"/>
            <p:cNvSpPr/>
            <p:nvPr/>
          </p:nvSpPr>
          <p:spPr>
            <a:xfrm>
              <a:off x="6808680" y="2494800"/>
              <a:ext cx="165564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2"/>
            <p:cNvGrpSpPr/>
            <p:nvPr/>
          </p:nvGrpSpPr>
          <p:grpSpPr>
            <a:xfrm>
              <a:off x="6866280" y="2349360"/>
              <a:ext cx="1541880" cy="1339200"/>
              <a:chOff x="6866280" y="2349360"/>
              <a:chExt cx="1541880" cy="1339200"/>
            </a:xfrm>
          </p:grpSpPr>
          <p:sp>
            <p:nvSpPr>
              <p:cNvPr id="443" name="Text Box 33"/>
              <p:cNvSpPr/>
              <p:nvPr/>
            </p:nvSpPr>
            <p:spPr>
              <a:xfrm>
                <a:off x="6866280" y="281196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34"/>
              <p:cNvSpPr/>
              <p:nvPr/>
            </p:nvSpPr>
            <p:spPr>
              <a:xfrm>
                <a:off x="8150400" y="2828880"/>
                <a:ext cx="2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5"/>
              <p:cNvSpPr/>
              <p:nvPr/>
            </p:nvSpPr>
            <p:spPr>
              <a:xfrm>
                <a:off x="7633080" y="3017160"/>
                <a:ext cx="48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36"/>
              <p:cNvSpPr/>
              <p:nvPr/>
            </p:nvSpPr>
            <p:spPr>
              <a:xfrm>
                <a:off x="7054200" y="2349360"/>
                <a:ext cx="1137600" cy="1339200"/>
              </a:xfrm>
              <a:custGeom>
                <a:avLst/>
                <a:gdLst>
                  <a:gd name="textAreaLeft" fmla="*/ 0 w 1137600"/>
                  <a:gd name="textAreaRight" fmla="*/ 1137600 w 1137600"/>
                  <a:gd name="textAreaTop" fmla="*/ 0 h 1339200"/>
                  <a:gd name="textAreaBottom" fmla="*/ 500400 h 133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200-EA09-48B9-A4FC-F191490075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7200" y="136440"/>
            <a:ext cx="296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620640" y="961920"/>
          <a:ext cx="8210520" cy="4988160"/>
        </p:xfrm>
        <a:graphic>
          <a:graphicData uri="http://schemas.openxmlformats.org/drawingml/2006/table">
            <a:tbl>
              <a:tblPr/>
              <a:tblGrid>
                <a:gridCol w="2089080"/>
                <a:gridCol w="3888000"/>
                <a:gridCol w="2233440"/>
              </a:tblGrid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O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UDI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1780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ustomer satisf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Rilevazione annuale prevista solo per RSA e C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(rilevazione nel II semestre non ancora disponib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.d.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760"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ati da conto 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ati di bilancio II semestre 2018 definitivi non ancora disponibili. Utilizzati i dati di preconsuntivo a settembre 201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i rileva un avanzo complessivo in parte determinato dalle entrate del servizio accreditato di sostegno alla domiciliarietà (che però non è oggetto del contratto di servizi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ttività straordina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.d.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.d.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CasellaDiTesto 4"/>
          <p:cNvSpPr/>
          <p:nvPr/>
        </p:nvSpPr>
        <p:spPr>
          <a:xfrm>
            <a:off x="684360" y="47628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sellaDiTesto 3"/>
          <p:cNvSpPr/>
          <p:nvPr/>
        </p:nvSpPr>
        <p:spPr>
          <a:xfrm>
            <a:off x="8028000" y="398304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e 3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971-AA00-49F7-BC21-693E5DA91D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asellaDiTesto 44"/>
          <p:cNvSpPr/>
          <p:nvPr/>
        </p:nvSpPr>
        <p:spPr>
          <a:xfrm>
            <a:off x="8131320" y="3481560"/>
            <a:ext cx="4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0"/>
          <p:cNvGrpSpPr/>
          <p:nvPr/>
        </p:nvGrpSpPr>
        <p:grpSpPr>
          <a:xfrm>
            <a:off x="6858000" y="2575080"/>
            <a:ext cx="1774440" cy="1294560"/>
            <a:chOff x="6858000" y="2575080"/>
            <a:chExt cx="1774440" cy="1294560"/>
          </a:xfrm>
        </p:grpSpPr>
        <p:sp>
          <p:nvSpPr>
            <p:cNvPr id="457" name="Rectangle 31"/>
            <p:cNvSpPr/>
            <p:nvPr/>
          </p:nvSpPr>
          <p:spPr>
            <a:xfrm>
              <a:off x="6858000" y="2738160"/>
              <a:ext cx="17744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32"/>
            <p:cNvGrpSpPr/>
            <p:nvPr/>
          </p:nvGrpSpPr>
          <p:grpSpPr>
            <a:xfrm>
              <a:off x="6919560" y="2575080"/>
              <a:ext cx="1652400" cy="1294560"/>
              <a:chOff x="6919560" y="2575080"/>
              <a:chExt cx="1652400" cy="1294560"/>
            </a:xfrm>
          </p:grpSpPr>
          <p:sp>
            <p:nvSpPr>
              <p:cNvPr id="459" name="Text Box 33"/>
              <p:cNvSpPr/>
              <p:nvPr/>
            </p:nvSpPr>
            <p:spPr>
              <a:xfrm>
                <a:off x="6919560" y="3022200"/>
                <a:ext cx="27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34"/>
              <p:cNvSpPr/>
              <p:nvPr/>
            </p:nvSpPr>
            <p:spPr>
              <a:xfrm>
                <a:off x="8295840" y="3038400"/>
                <a:ext cx="27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 flipV="1">
                <a:off x="7741440" y="2919960"/>
                <a:ext cx="389520" cy="29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utoShape 36"/>
              <p:cNvSpPr/>
              <p:nvPr/>
            </p:nvSpPr>
            <p:spPr>
              <a:xfrm>
                <a:off x="7120800" y="2575080"/>
                <a:ext cx="1219320" cy="129456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294560"/>
                  <a:gd name="textAreaBottom" fmla="*/ 483840 h 129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941-27B8-462B-A4C3-9932920CED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57200" y="136440"/>
            <a:ext cx="296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20640" y="961920"/>
          <a:ext cx="8210520" cy="3762360"/>
        </p:xfrm>
        <a:graphic>
          <a:graphicData uri="http://schemas.openxmlformats.org/drawingml/2006/table">
            <a:tbl>
              <a:tblPr/>
              <a:tblGrid>
                <a:gridCol w="2089080"/>
                <a:gridCol w="3888000"/>
                <a:gridCol w="223344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O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UDI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42396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ttività evolu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mpliamento della capacità ricettiva della CASA Papa da 10 a 12 posti letto, e riallineamento (in corso) del contratto col gestore Anteas per adeguamento ai nuovi standar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hiusura del Centro Diurno Cimabue in attesa di nuove progettualità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CasellaDiTesto 4"/>
          <p:cNvSpPr/>
          <p:nvPr/>
        </p:nvSpPr>
        <p:spPr>
          <a:xfrm>
            <a:off x="684360" y="47628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asellaDiTesto 3"/>
          <p:cNvSpPr/>
          <p:nvPr/>
        </p:nvSpPr>
        <p:spPr>
          <a:xfrm>
            <a:off x="8028000" y="398304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e 3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79F8-BA6F-422B-B0F6-8DFEEC8DC4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asellaDiTesto 44"/>
          <p:cNvSpPr/>
          <p:nvPr/>
        </p:nvSpPr>
        <p:spPr>
          <a:xfrm>
            <a:off x="7945560" y="3506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,8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30"/>
          <p:cNvGrpSpPr/>
          <p:nvPr/>
        </p:nvGrpSpPr>
        <p:grpSpPr>
          <a:xfrm>
            <a:off x="6810480" y="2349360"/>
            <a:ext cx="1774440" cy="1294920"/>
            <a:chOff x="6810480" y="2349360"/>
            <a:chExt cx="1774440" cy="1294920"/>
          </a:xfrm>
        </p:grpSpPr>
        <p:sp>
          <p:nvSpPr>
            <p:cNvPr id="473" name="Rectangle 31"/>
            <p:cNvSpPr/>
            <p:nvPr/>
          </p:nvSpPr>
          <p:spPr>
            <a:xfrm>
              <a:off x="6810480" y="2512440"/>
              <a:ext cx="17744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32"/>
            <p:cNvGrpSpPr/>
            <p:nvPr/>
          </p:nvGrpSpPr>
          <p:grpSpPr>
            <a:xfrm>
              <a:off x="6872040" y="2349360"/>
              <a:ext cx="1652400" cy="1294920"/>
              <a:chOff x="6872040" y="2349360"/>
              <a:chExt cx="1652400" cy="1294920"/>
            </a:xfrm>
          </p:grpSpPr>
          <p:sp>
            <p:nvSpPr>
              <p:cNvPr id="475" name="Text Box 33"/>
              <p:cNvSpPr/>
              <p:nvPr/>
            </p:nvSpPr>
            <p:spPr>
              <a:xfrm>
                <a:off x="6872040" y="2796480"/>
                <a:ext cx="27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4"/>
              <p:cNvSpPr/>
              <p:nvPr/>
            </p:nvSpPr>
            <p:spPr>
              <a:xfrm>
                <a:off x="8248320" y="2813040"/>
                <a:ext cx="27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5"/>
              <p:cNvSpPr/>
              <p:nvPr/>
            </p:nvSpPr>
            <p:spPr>
              <a:xfrm flipV="1">
                <a:off x="7693920" y="2878200"/>
                <a:ext cx="398880" cy="11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36"/>
              <p:cNvSpPr/>
              <p:nvPr/>
            </p:nvSpPr>
            <p:spPr>
              <a:xfrm>
                <a:off x="7073280" y="2349360"/>
                <a:ext cx="1219320" cy="129492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294920"/>
                  <a:gd name="textAreaBottom" fmla="*/ 483840 h 129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7C7-26C9-4F26-BD2D-03CC611155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asellaDiTesto 1"/>
          <p:cNvSpPr/>
          <p:nvPr/>
        </p:nvSpPr>
        <p:spPr>
          <a:xfrm>
            <a:off x="324000" y="1989000"/>
            <a:ext cx="856908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2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Verbali A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2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26.7.2018: vigilanza Villa Palazzoli: sono risultati rispondenti tutti i requisiti controll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2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28.8.2018: vigilanza Villa De Asmundis: sono risultati rispondenti tutti i requisiti controll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2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26.9.2018: vigilanza RSA Villa Elisa: verifica di appropriatezza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2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8.10.2018: vigilanza RSA  Arici Sega: verifica di appropriatezza 97,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asellaDiTesto 2"/>
          <p:cNvSpPr/>
          <p:nvPr/>
        </p:nvSpPr>
        <p:spPr>
          <a:xfrm>
            <a:off x="611280" y="1484280"/>
            <a:ext cx="57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- Dati da enti di cont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e 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7070-7CA0-408B-8A86-B6346BE9D1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611280" y="352440"/>
            <a:ext cx="422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- Dati governance ges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640800" y="981000"/>
            <a:ext cx="7889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Dati forniti nei tempi previsti con apposita relazione e preconsuntivo di bilan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60A-9FF0-4FC8-B3AE-74F577AEE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asellaDiTesto 1"/>
          <p:cNvSpPr/>
          <p:nvPr/>
        </p:nvSpPr>
        <p:spPr>
          <a:xfrm>
            <a:off x="179280" y="907920"/>
            <a:ext cx="88344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ono risultati risponde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Gestione degli ingressi ospiti/dimis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ndici di saturazione RSA (99,82% RSA Arici Sega e 99,739% RSA Villa El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ndice di saturazione CDI/CD (80,97% CDI Primavere, 85,98% CDI Achille Papa, 56% CD Mantov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ndice di saturazione CRA (87,05% CRA Villa de Asmundis e 83,86% CRA Villa  Palazzoli, 81,83% CRA Pa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Tutela della privacy degli osp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arta dei servizi (con la necessità di estenderla a tutte le strutture e di definire megl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 livelli di serviz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lcune criticità permangono rispetto alla nuova modalità di gestione delle liste di attesa – da monitorare meglio le procedure connesse all’inserimento di casi «sociali» segnalati dal Comu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ifficoltà di saturazione dei posti letto di Villa De Asmund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D Mantovani: indice di saturazione al 56% (basso indice per avvio attività, necessità di trasferimento di alcuni ospiti al CD integr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CasellaDiTesto 2"/>
          <p:cNvSpPr/>
          <p:nvPr/>
        </p:nvSpPr>
        <p:spPr>
          <a:xfrm>
            <a:off x="325440" y="326880"/>
            <a:ext cx="57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- Dati controllati dal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e 6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0665-C156-4EE3-B7F2-17A16FC5A5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2FDA-7636-49E5-B946-9A3C7713E9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sellaDiTesto 2"/>
          <p:cNvSpPr/>
          <p:nvPr/>
        </p:nvSpPr>
        <p:spPr>
          <a:xfrm>
            <a:off x="684360" y="207648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Manute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 flipV="1" rot="10800000">
            <a:off x="569880" y="3200760"/>
            <a:ext cx="7704000" cy="17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ono state  regolarmente effettuate la manutenzione predittiva relativa agli impianti elettrici e termoidraulici e la manutenzione ordinaria e straordinaria degli impianti termici delle varie strut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Le manutenzioni straordinarie relative al primo semestre hanno riguarda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RSA Arici Sega: rifacimento pulsantiere testa letto e ritappezzatura n. 33 poltr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701640" y="476280"/>
            <a:ext cx="489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- Dati controllati dalla Fon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684360" y="1197000"/>
            <a:ext cx="2406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N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e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918-3148-4EC3-8794-5A507F069F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sellaDiTesto 1"/>
          <p:cNvSpPr/>
          <p:nvPr/>
        </p:nvSpPr>
        <p:spPr>
          <a:xfrm>
            <a:off x="466560" y="1700280"/>
            <a:ext cx="8223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sente presso le strutture una cassetta recl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Nel 2014 è stata attivata una nuova procedura per l’acquisizione dei reclami e l’analisi degli stessi. (protocollo per la gestione di disserviz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 reclami presi in considerazione devono essere in forma NON anon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i segnalano per il secondo semestre 2018 otto reclami relativi alle RSA –  lavanderia (2), ristorazione (2), su procedure assistenziali (1), cambio stanza paziente (1) e 2 reclami per CRA Villa Palazzoli e CASA Papa (per tipologia di servizio e farmaci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Lamentele sui servizi di ristorazione e lavanderia sono pervenuti anche dagli operatori: sono stati attivati incontri di verifica con le ditte aggiudicatrici dei servi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sellaDiTesto 2"/>
          <p:cNvSpPr/>
          <p:nvPr/>
        </p:nvSpPr>
        <p:spPr>
          <a:xfrm>
            <a:off x="557280" y="78120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Gestione Rec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ttangolo 1"/>
          <p:cNvSpPr/>
          <p:nvPr/>
        </p:nvSpPr>
        <p:spPr>
          <a:xfrm>
            <a:off x="344160" y="72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e 6"/>
          <p:cNvSpPr/>
          <p:nvPr/>
        </p:nvSpPr>
        <p:spPr>
          <a:xfrm>
            <a:off x="6607080" y="112680"/>
            <a:ext cx="2067120" cy="652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C1DD-CC7F-4978-8636-7440E73F2E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ttangolo 1"/>
          <p:cNvSpPr/>
          <p:nvPr/>
        </p:nvSpPr>
        <p:spPr>
          <a:xfrm>
            <a:off x="684360" y="981000"/>
            <a:ext cx="690228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754-499D-45EB-B5E9-F83DABBFF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llaDiTesto 3"/>
          <p:cNvSpPr/>
          <p:nvPr/>
        </p:nvSpPr>
        <p:spPr>
          <a:xfrm>
            <a:off x="684360" y="1125360"/>
            <a:ext cx="7181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llegati: elenco strut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e 6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81C3-18E0-4F0E-A18D-5210F9BDF2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250920" y="333360"/>
            <a:ext cx="729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e 5"/>
          <p:cNvSpPr/>
          <p:nvPr/>
        </p:nvSpPr>
        <p:spPr>
          <a:xfrm>
            <a:off x="6607080" y="112680"/>
            <a:ext cx="2067120" cy="652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E4F-5635-4C81-9587-41541AE048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1"/>
          <p:cNvSpPr/>
          <p:nvPr/>
        </p:nvSpPr>
        <p:spPr>
          <a:xfrm>
            <a:off x="103320" y="1268280"/>
            <a:ext cx="8834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N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La Customer satisfaction viene effettuata con cadenza annuale: somministrazione dei questionari nel II semestre. L’analisi dei risultati è ancora in co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931-C47E-4C12-A0B0-0FBCD68923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03040" y="58680"/>
            <a:ext cx="8045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dal cont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sellaDiTesto 1"/>
          <p:cNvSpPr/>
          <p:nvPr/>
        </p:nvSpPr>
        <p:spPr>
          <a:xfrm>
            <a:off x="304920" y="1268280"/>
            <a:ext cx="87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6699"/>
                </a:solidFill>
                <a:latin typeface="Arial"/>
              </a:rPr>
              <a:t>Inserire i dati economici forniti dal gestore con relativa de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tangolo 1"/>
          <p:cNvSpPr/>
          <p:nvPr/>
        </p:nvSpPr>
        <p:spPr>
          <a:xfrm>
            <a:off x="304920" y="82692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ttur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ot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2360" y="851040"/>
          <a:ext cx="8761320" cy="5378400"/>
        </p:xfrm>
        <a:graphic>
          <a:graphicData uri="http://schemas.openxmlformats.org/drawingml/2006/table">
            <a:tbl>
              <a:tblPr/>
              <a:tblGrid>
                <a:gridCol w="2879640"/>
                <a:gridCol w="792360"/>
                <a:gridCol w="5089320"/>
              </a:tblGrid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08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esidenze sanitario-assistenziali (R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2da2bf"/>
                        </a:buClr>
                        <a:buSzPct val="68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sociosanitarie con quota di finanziamento regiona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2da2bf"/>
                        </a:buClr>
                        <a:buSzPct val="68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anzo per la RSA Arici Sega (€ 47.038) e lieve disavanzo per RSA Villa Elisa (€  3.079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0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ri diurni integrati (CDI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semiresidenziali con servizio di traspo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Strutture sociosanitarie con quota di finanziamento regiona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Avanzo relativo ai centri diurni integrati (€ 58.855). Tali servizi risentono positivamente di economie di scala, essendo ubicati all’interno di RSA o com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munità, case albergo e alloggi annessi, altri servizi diur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isavanzo complessivo per questo tipo di strutture (€ 60.000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isavanzo per  Villa  De  Asmundis  (€ 21.891), disavanzo  Villa Palazzoli  (€ 22.968) . Per il disavanzo di Villa Palazzoli incidono i costi di affitto della struttura Richiedei a Gussago, e i costi di personale, per Villa De Asmundis il ridotto indice di saturazione e le assenze di personale. Disavanzo per CD Mantovani (€ 13.683), dovuto a difficoltà di saturazione della strut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512" name="Ovale 7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0AC-FF29-4CFE-BA56-A72E6CDB0C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4A7-3924-4DDC-B1BF-91D664FC3D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50920" y="2565360"/>
          <a:ext cx="8642160" cy="335160"/>
        </p:xfrm>
        <a:graphic>
          <a:graphicData uri="http://schemas.openxmlformats.org/drawingml/2006/table">
            <a:tbl>
              <a:tblPr/>
              <a:tblGrid>
                <a:gridCol w="3240000"/>
                <a:gridCol w="865080"/>
                <a:gridCol w="45370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vizi domiciliari integrati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anzo complessivo di € 6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516" name="Rectangle 2"/>
          <p:cNvSpPr/>
          <p:nvPr/>
        </p:nvSpPr>
        <p:spPr>
          <a:xfrm>
            <a:off x="250920" y="264960"/>
            <a:ext cx="804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dal conto economic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e 4"/>
          <p:cNvSpPr/>
          <p:nvPr/>
        </p:nvSpPr>
        <p:spPr>
          <a:xfrm>
            <a:off x="6732720" y="264960"/>
            <a:ext cx="190332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50920" y="1989000"/>
          <a:ext cx="8642160" cy="579600"/>
        </p:xfrm>
        <a:graphic>
          <a:graphicData uri="http://schemas.openxmlformats.org/drawingml/2006/table">
            <a:tbl>
              <a:tblPr/>
              <a:tblGrid>
                <a:gridCol w="3240000"/>
                <a:gridCol w="865080"/>
                <a:gridCol w="453708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sp>
        <p:nvSpPr>
          <p:cNvPr id="519" name="CasellaDiTesto 1"/>
          <p:cNvSpPr/>
          <p:nvPr/>
        </p:nvSpPr>
        <p:spPr>
          <a:xfrm>
            <a:off x="369720" y="3573360"/>
            <a:ext cx="78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70c0"/>
                </a:solidFill>
                <a:latin typeface="Arial"/>
              </a:rPr>
              <a:t>* Servizi non compresi nel contratto di servizio che concorrono a formare l’utile rile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5473-16B1-4CBC-8AE9-839CD9D66D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12680" y="71280"/>
            <a:ext cx="8045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dal conto economic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sellaDiTesto 1"/>
          <p:cNvSpPr/>
          <p:nvPr/>
        </p:nvSpPr>
        <p:spPr>
          <a:xfrm>
            <a:off x="304920" y="1268280"/>
            <a:ext cx="87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6699"/>
                </a:solidFill>
                <a:latin typeface="Arial"/>
              </a:rPr>
              <a:t>Inserire i dati economici forniti dal gestore con relativa de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ttangolo 1"/>
          <p:cNvSpPr/>
          <p:nvPr/>
        </p:nvSpPr>
        <p:spPr>
          <a:xfrm>
            <a:off x="304920" y="82692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ttur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ot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303120" y="826920"/>
          <a:ext cx="8280360" cy="4923000"/>
        </p:xfrm>
        <a:graphic>
          <a:graphicData uri="http://schemas.openxmlformats.org/drawingml/2006/table">
            <a:tbl>
              <a:tblPr/>
              <a:tblGrid>
                <a:gridCol w="3479760"/>
                <a:gridCol w="1008360"/>
                <a:gridCol w="1079280"/>
                <a:gridCol w="1079640"/>
                <a:gridCol w="1633320"/>
              </a:tblGrid>
              <a:tr h="41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re strut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Vendite e prest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l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ervi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aterie 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eni ter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sto del perso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ltri oneri/  ammort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e straordina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finanzi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3516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serv. Dom accreditati (non in contratto di serviz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525" name="Ovale 7"/>
          <p:cNvSpPr/>
          <p:nvPr/>
        </p:nvSpPr>
        <p:spPr>
          <a:xfrm>
            <a:off x="7074000" y="7128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62A-BF51-4DFF-BF9C-F63BB78FC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DD0-4830-40F7-9969-45A31F2DDC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ttangolo 2"/>
          <p:cNvSpPr/>
          <p:nvPr/>
        </p:nvSpPr>
        <p:spPr>
          <a:xfrm>
            <a:off x="775800" y="83664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Attività straor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4"/>
          <p:cNvSpPr/>
          <p:nvPr/>
        </p:nvSpPr>
        <p:spPr>
          <a:xfrm>
            <a:off x="971640" y="184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n.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976-EFB2-4384-B7FE-71920B3B62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ttangolo 2"/>
          <p:cNvSpPr/>
          <p:nvPr/>
        </p:nvSpPr>
        <p:spPr>
          <a:xfrm>
            <a:off x="676440" y="46836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Attività evol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5"/>
          <p:cNvSpPr/>
          <p:nvPr/>
        </p:nvSpPr>
        <p:spPr>
          <a:xfrm>
            <a:off x="324000" y="1341360"/>
            <a:ext cx="8353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Le attività evolutive del II semestre 2018 prevedev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esentazione nuova CPE per l’autorizzazione al funzionamento come C.A.S.A. per la comunità Achille Papa. Ampliamento della capacità ricettiva da 10 a 12 posti. Allineamento (in corso) del contratto col gestore Anteas per adeguamento ai nuovi standard gestionali previsti per l’unità d’offerta C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Inol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Ancora in corso di definizione la modalità di gestione complessiva di tutti gli alloggi destinati al servizio di protezione alloggi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Centro diurno Cimabue: chiusura dell’attività di centro diurno nel secondo semestre 2018. Verifica nel 2019 delle possibili progettualità condivise con altri enti/istitu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3EE-0F15-4B3D-8525-4759424448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asellaDiTesto 2"/>
          <p:cNvSpPr/>
          <p:nvPr/>
        </p:nvSpPr>
        <p:spPr>
          <a:xfrm>
            <a:off x="611280" y="2602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Elenco delle strutture (all.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e 4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2FC-6478-4100-9228-6192C70035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60360" y="907920"/>
          <a:ext cx="8424720" cy="5345280"/>
        </p:xfrm>
        <a:graphic>
          <a:graphicData uri="http://schemas.openxmlformats.org/drawingml/2006/table">
            <a:tbl>
              <a:tblPr/>
              <a:tblGrid>
                <a:gridCol w="3706920"/>
                <a:gridCol w="973080"/>
                <a:gridCol w="3744720"/>
              </a:tblGrid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109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0944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09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esidenze sanitario-assistenziali (RSA) – Arici Sega e Villa Eli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just">
                        <a:spcBef>
                          <a:spcPts val="400"/>
                        </a:spcBef>
                        <a:buClr>
                          <a:srgbClr val="2da2bf"/>
                        </a:buClr>
                        <a:buSzPct val="68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sociosanitarie con quota di finanziamento regiona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ri diurni integrati (CDI)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semiresidenziali con servizio di trasporto - Primavere e Pa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sociosanitarie con quota di finanziamento regiona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Tali servizi risentono positivamente di economie di scala, essendo ubicati all’interno di RSA o com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409760"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munità, case albergo e alloggi anness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asa Albergo Villa Palazzoli, Comunità Villa De Asmundis, Comunità CASA Pa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el corso del 2013 Villa De Asmundis si è trasformata da RSA a comunità. Ciò ha comportato il trasferimento degli anziani verso altre RSA e la necessità di riempire la struttura con altri anziani con compromissione sanitaria più legge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0360"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ri Aperti Cimabue e Mantova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ro Servizi Bi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utture prese in carico nel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944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2CA2-D109-4EA5-BF48-53DBA9B4BC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0920" y="750960"/>
            <a:ext cx="8762760" cy="48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Fondazione Brescia Solidale si occupa di gestire alcuni servizi residenziali e semiresidenziali per anziani, attraverso n. 7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n. 2 residenze sanitario-assistenziali (RS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n. 2 centri diurni integrati (CDI), strutture semiresidenziali con servizio di traspor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n. 3 comunità, case albergo e alloggi annes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A partire dal 2018 la Fondazione si occupa anche di ulteriori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n. 1 centro servizi BIRD – custodia sociale e ani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n. 2 centri aperti – Cimabue e Mantov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e strutture sono di proprietà del Comune di Bres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Fondazione Brescia Solidale si è dotata di una carta dei servizi relative alle 2 RSA e di customer satisfaction (una volta l’anno) per le strutture sociosanita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Fondazione ha avviato un sistema di monitoraggio dei recla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Il Settore servizi sociali ha istituito un nucleo di controllo sulle attività sociali e socio sanitarie, e definirà nel piano dei controlli anche la verifica delle attività non già vigilate da A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gestione dell’attività di controllo non richiede l’assegnazione di ulteriori risorse economiche/um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e 5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llaDiTesto 1"/>
          <p:cNvSpPr/>
          <p:nvPr/>
        </p:nvSpPr>
        <p:spPr>
          <a:xfrm>
            <a:off x="250920" y="351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Pre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084-C219-490B-8F9D-FBD987ADB0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ttangolo 1"/>
          <p:cNvSpPr/>
          <p:nvPr/>
        </p:nvSpPr>
        <p:spPr>
          <a:xfrm>
            <a:off x="684360" y="1684440"/>
            <a:ext cx="690228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CF1-3AF5-4631-B9F6-EE28C43899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llaDiTesto 3"/>
          <p:cNvSpPr/>
          <p:nvPr/>
        </p:nvSpPr>
        <p:spPr>
          <a:xfrm>
            <a:off x="826920" y="1125360"/>
            <a:ext cx="718200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Esito riunioni period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e 6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470-C16F-443D-8362-DF23376328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17360" y="127080"/>
            <a:ext cx="2612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Oggetto de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484200" y="695160"/>
            <a:ext cx="840276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</a:t>
            </a: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L’attività ordinaria </a:t>
            </a: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ella Fondazione Brescia Solidale per la gestione delle strutture ad essa affidate si esplica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ttività ordinaria  e adempimenti sulla sicur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Manutenzione ordinar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- Attività straordinaria</a:t>
            </a: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In accordo con l’A.C. la Fondazione può effettuare alcuni interventi straordinari sulle strutture ad essa affi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ttività evolutive</a:t>
            </a: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mpliamento della capacità ricettiva della CASA Papa da 10 a 12 posti letto, e riallineamento del contratto col gestore Anteas per adeguamento ai nuovi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  <a:ea typeface="Arial"/>
              </a:rPr>
              <a:t>- Attività oltre il contratto di serviz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La Fondazione è inserita nell’elenco dei soggetti accreditati dal Comune per la gestione del sistema integrato dei servizi domicili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e 5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B13-5AF4-4162-8BB5-8C699238BC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8780-6790-4B50-9777-2AAD283DF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-4320" y="96840"/>
            <a:ext cx="34617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Oggett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4280" y="476280"/>
            <a:ext cx="8402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ttività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e 5"/>
          <p:cNvSpPr/>
          <p:nvPr/>
        </p:nvSpPr>
        <p:spPr>
          <a:xfrm>
            <a:off x="7077240" y="-28440"/>
            <a:ext cx="2066760" cy="652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78D-7B99-4269-B825-0F65E9773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79280" y="901800"/>
          <a:ext cx="8785440" cy="5595840"/>
        </p:xfrm>
        <a:graphic>
          <a:graphicData uri="http://schemas.openxmlformats.org/drawingml/2006/table">
            <a:tbl>
              <a:tblPr/>
              <a:tblGrid>
                <a:gridCol w="936720"/>
                <a:gridCol w="879480"/>
                <a:gridCol w="2647800"/>
                <a:gridCol w="1081080"/>
                <a:gridCol w="1079640"/>
                <a:gridCol w="1152720"/>
                <a:gridCol w="1008000"/>
              </a:tblGrid>
              <a:tr h="442080"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42800"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/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re residenz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404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TA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getto attivit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zione residenziale (riservatezza e socializzazi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glienza diurna di ospiti a compromissione sanita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zione residenziale (riservatezza e socializzazi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sanitaria (secondo gli standard previsi dalla Regi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sanitaria (secondo gli standard previsi dalla Regi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sanita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individualizzata per migliorare i livelli di autonomia e promuovere il beness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individualizzata per migliorare i livelli di autonomia e promuovere il beness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individualizzata per migliorare i livelli di autonomia e promuovere il beness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DEI REQUISITI STRUTTURALI E ORGANIZZAT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ASL REQUISITI SOGGETTIVI E STRUTTURALI (DGR 3540/20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forma giuridica e affidablità economica e finanziaria del soggetto gest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0c0c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requisiti soggettiv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0c0c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 penale, antimaf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scheda strut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etto requisiti edilizi, di sicurezza e accessibili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requisiti tecnologici (impiantist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urezza ambi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a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a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zza assicurativa responsabilità civ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576-31D5-4CC5-94F1-09671EF9E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19160" y="127080"/>
            <a:ext cx="346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Oggett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08000" y="506520"/>
            <a:ext cx="8429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ttività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e 5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FA0-EDA8-435B-842D-D989FB4E5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50920" y="981000"/>
          <a:ext cx="8713800" cy="5610240"/>
        </p:xfrm>
        <a:graphic>
          <a:graphicData uri="http://schemas.openxmlformats.org/drawingml/2006/table">
            <a:tbl>
              <a:tblPr/>
              <a:tblGrid>
                <a:gridCol w="865080"/>
                <a:gridCol w="1008000"/>
                <a:gridCol w="2448000"/>
                <a:gridCol w="1079640"/>
                <a:gridCol w="1081080"/>
                <a:gridCol w="1015920"/>
                <a:gridCol w="1216080"/>
              </a:tblGrid>
              <a:tr h="442080"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ITA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getto attivit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/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re residenz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44080">
                <a:tc rowSpan="1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' GEST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REQUISITI GESTIONALI ATS(DGR 3540/2012) E 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co e n. ospiti pres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e uten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cicoli socioassistenziali e sanitari (sistema reg.le di valutazio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del servizio e procedure assistenziali adot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o informativo A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o il 31 dicemb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torazi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HACC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HACC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HACCP E N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zioni, pasti, mere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COMU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ggio attuato dalla Fondazione per il rispetto degli standard region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0c0c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ingresso ospite/dimissione/liste atte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vigionam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i organi di controllo/revisore cont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 dei serv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senza SL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elenco dei serv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elenco dei serv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tela priv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ce e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sto dalla normativa reg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zione trimestrale e relazione annu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985B-2E49-4404-80B7-7EB9E67A84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08000" y="0"/>
            <a:ext cx="3484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Oggett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08000" y="333360"/>
            <a:ext cx="8294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ttività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e 5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664-1290-4998-90C3-180EF18EC5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50920" y="369720"/>
          <a:ext cx="8713800" cy="6289920"/>
        </p:xfrm>
        <a:graphic>
          <a:graphicData uri="http://schemas.openxmlformats.org/drawingml/2006/table">
            <a:tbl>
              <a:tblPr/>
              <a:tblGrid>
                <a:gridCol w="936360"/>
                <a:gridCol w="1081080"/>
                <a:gridCol w="3024360"/>
                <a:gridCol w="647640"/>
                <a:gridCol w="719280"/>
                <a:gridCol w="936720"/>
                <a:gridCol w="1368360"/>
              </a:tblGrid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ITA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getto attivit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/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re residenz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68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8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INTERNO FOND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azioni accessor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ioterapista. Riabilitazione, animazione, barbiere/parrucchiere, callista, volontari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nza religi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o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pratiche amm.ve e burocratich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i, trasferimenti di residenza, ricette, ec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i agli utenti ai fini fisc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iene dell'osp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e parenti (modalità di access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TENZIONE 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COMU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ento in efficienza di edifici - inter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naci, tinteggiatura, verniciatura, rivestimenti, pavimentazioni, serramenti, vetri, canalet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ento in efficienza di edifici - ester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nzione, verde, impianti innaffio/irrigazione, illu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arazione impianti idro-sanita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arazione impianti di riscald. loc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arazione impianti elettr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incen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stituzione beni mobili non utilizza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9669-AEEF-4B43-B471-F15E5460BC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95280" y="115920"/>
            <a:ext cx="5684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Oggett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135000" y="404640"/>
            <a:ext cx="8402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ttività straordinarie ed evolu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e 5"/>
          <p:cNvSpPr/>
          <p:nvPr/>
        </p:nvSpPr>
        <p:spPr>
          <a:xfrm>
            <a:off x="7077240" y="23760"/>
            <a:ext cx="206676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nzi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6B6-4E61-4586-AA20-019F91F7B7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7360" y="255600"/>
          <a:ext cx="8785440" cy="3914640"/>
        </p:xfrm>
        <a:graphic>
          <a:graphicData uri="http://schemas.openxmlformats.org/drawingml/2006/table">
            <a:tbl>
              <a:tblPr/>
              <a:tblGrid>
                <a:gridCol w="1063800"/>
                <a:gridCol w="1096920"/>
                <a:gridCol w="2227320"/>
                <a:gridCol w="1096920"/>
                <a:gridCol w="1073160"/>
                <a:gridCol w="992160"/>
                <a:gridCol w="1235160"/>
              </a:tblGrid>
              <a:tr h="528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T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ITA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getto attivit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i /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re residenz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6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' STRA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COMU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i opere di adeguamento delle strutture in carico, richieste dall'Amministrazione Comunale.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' EVOLU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COMU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amento della capacità ricettiva della CASA Papa da 10 a 12 posti letto, e riallineamento del contratto col gestore Anteas per adeguamento ai nuovi 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3:07Z</dcterms:created>
  <dc:creator>Galuppini Monica</dc:creator>
  <dc:description/>
  <dc:language>en-US</dc:language>
  <cp:lastModifiedBy>Albertini Cristina</cp:lastModifiedBy>
  <cp:lastPrinted>2017-10-19T09:04:40Z</cp:lastPrinted>
  <dcterms:modified xsi:type="dcterms:W3CDTF">2019-03-11T14:03:07Z</dcterms:modified>
  <cp:revision>1759</cp:revision>
  <dc:subject/>
  <dc:title>Presentazione standard di PowerPoint</dc:title>
</cp:coreProperties>
</file>