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25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26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 type="sldNum" idx="27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25094E-8B3F-4AAB-8C4D-204D3823E55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385128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FA2AC-CE96-4650-8DCD-993629F521A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42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6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EDFDBA-5C5C-4AEA-B1F6-E50B4511188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"/>
          <p:cNvSpPr/>
          <p:nvPr/>
        </p:nvSpPr>
        <p:spPr>
          <a:xfrm>
            <a:off x="385128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9801B74-1109-4E28-8F77-2224A02AF2A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42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6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EF6243-ADAC-4138-B9A5-82EFEE8763A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"/>
          <p:cNvSpPr/>
          <p:nvPr/>
        </p:nvSpPr>
        <p:spPr>
          <a:xfrm>
            <a:off x="385128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DAFE52AC-6BCB-4DC8-A054-CE8893A089A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42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6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43A1A2-8FB4-4F55-AA36-55D88840E67F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"/>
          <p:cNvSpPr/>
          <p:nvPr/>
        </p:nvSpPr>
        <p:spPr>
          <a:xfrm>
            <a:off x="385128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9FDA489-854B-4CCF-BB56-D0B233AF4E9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42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85128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F1091-F273-4AE4-8EC7-71B6BE1FA78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52720" y="9429840"/>
            <a:ext cx="2946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E81C5-8BBB-4F28-9CCA-17025AA13B0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43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385128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06998-E448-4B81-86D2-9ACAA37DB58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85128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100C6-1E09-45BE-9F26-C892BFF10B3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85128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44792-12B9-4B24-889C-BA463342825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2772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6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FA2AFF-3F4A-4387-982D-0FCE01AA283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"/>
          <p:cNvSpPr/>
          <p:nvPr/>
        </p:nvSpPr>
        <p:spPr>
          <a:xfrm>
            <a:off x="385128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3949AD9-79B7-492F-8E9C-2EF3329B71A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42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699-0EFE-4657-AADC-4607A7FE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B73-DD37-49FA-B498-54DCC365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609-4B71-4BA6-991F-3C697BE9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476-68C6-47CF-B5F1-2CE8F8D1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2D9E-EAD0-4F95-B831-6A48BF2A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AB39-2A94-46B3-92FE-FE5059A6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8DA9-32F6-40F0-AD5D-7DC41EFB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1C93-8FAC-4B02-B289-5E4511FD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85EA-86B7-48BA-834B-7E348EED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6EBC-AC21-4B6D-B3B7-8E882F63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76D9-9DFA-4F63-91E3-66859940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F57-D862-41C4-993C-CDA034A0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8DE5-C648-4589-B98E-0D796571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C507-6F81-4A57-9120-C1BFAF4D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6258-215B-4B4C-A4CA-23E74B40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833B-39B8-4F05-81A1-F2588AD7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6751-7C7E-4687-A86F-44C69BA5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76618-B621-462C-B850-DF47DF4B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8E542-B775-4B88-85CB-C5BBEBC9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7066B-803B-45E3-860D-66047997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D5C56-7AAC-4A51-8FED-ACC593F6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B64F8-7C42-4444-A6EB-B612F319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28E-853A-4B06-9CC2-E6396E45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F09D0-9B39-4817-98F2-D2289DEE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A4991-301B-442D-B1F8-818BC805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227C-28A0-4D47-B165-8A80FB4C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EE862-4EB3-4C29-BCE8-B3798382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34976-36B2-432C-8C0E-83F7FFF1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A18FB-D89F-48A4-A0FC-2D561F96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1AB5-9D69-449E-9483-4220E401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5C80E-12AA-4F88-ABF4-9FEFEB77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29EFB-A11F-4E0C-81AA-A23C9240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604E9-250D-4774-822D-1451E45A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E6F-4620-4BCE-A3C8-7DC800A2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AA3E3-9FCA-4135-81E5-32C8AD40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3B0EE-255C-4793-A8BB-0449EC84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2EC80-E287-458C-AFDF-48D5BA2A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F2543-4F06-4C9C-BF65-87AB7342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649FA-64A9-494B-A8E5-7059043C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6D5E6-7BFB-4083-A646-3536F126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AF859-4A16-489B-852C-9C3870E5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B4300-25D5-40EC-A94F-FC5474F2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53DD4-EC87-498D-B724-5A9AB056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FB247-0837-4951-B221-45997B8E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42E-71A6-460B-AEF0-F20EF60C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AAE19-8D7B-4F86-802C-4A4F1ACC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08CAE-5CFE-4E58-9C73-E3A35952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48800-82D8-44D1-AF60-E37C61CB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2C93D-ABA5-496A-998C-D1A31ECD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E45BA-9300-4CF9-BF8E-36E1FBEC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73F45-4D42-4E5C-BECE-54F7843C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B90BE-3CB7-42D0-A978-2289D587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F4043-8E3B-4419-B6B1-FB675E0F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4F85F-E932-4AF2-9DAD-6C6DA3BB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9538B-488F-4343-AB08-1207C44B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534-4FB9-4D25-8A82-4045AD41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791CC-1AE9-4406-A652-C624BA94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645F0-1927-42EF-B4F3-A9EE7E9D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EC3B7-1D2B-4CA6-8C52-100CD361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27157-97F0-443E-A404-4CE77B0B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A5EC9-A86B-400B-8425-AC654B58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FAD89-11C0-44DA-81F7-90F9A87E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C87A8-C4B6-4975-9D4B-6403349E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538DE-C5A2-43E7-B299-B709AB52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D0C96-906B-4BAE-BE11-824AD66F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D6128-68AC-45DF-B533-29A1C856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19F-CEA4-448C-80B5-77424D9A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33183-D45D-4355-B1EF-8C39D101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AC04A-BEF1-4A8E-ADF8-84D3FE6D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25552-F29F-4473-8920-B25011EA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01646-8483-46D9-9576-AFC3D624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0FD10-BD31-4FC1-80D4-F26419A0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7A4E4-3209-4A22-8F24-595F10DE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5F4FC-6458-441B-A6B2-958F8BB7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C0011-CF6E-4B5D-BD54-3DEF01BC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AB6E2-710C-4213-A916-7C2FBFBD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E5BD8-42B6-4983-80D8-FEFC9C57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2D97-19C1-4056-A3D1-70217121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9FFA2-8445-4744-8234-01A09130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25AE4-60CE-40F5-838C-2F40CC32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89F48-651C-4000-865C-083F9142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D4C79-6A65-4C2B-BAFC-E9209CA7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7DBF9-7A60-435E-A3E4-154F78D5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E501F-0E3E-4D34-BBF4-34FAC903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6E400-6189-4F3D-A1CF-8D91E683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A94EF-7270-458A-A5BB-77416198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76E02-B51B-4B59-BD00-EE514529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F8CDB-535D-4F11-91F5-5E8FC0A2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C11-56C2-4947-9F8D-0D5D6FE7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4E15C-7DAE-4B5B-A366-5B2D3BAE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6761B-221C-4D28-B34B-95326F80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48E6D-1D39-4E2F-8D6B-28C8E371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C2584-2C87-4DF4-A58C-73E26714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BB3A2-EF25-4C00-81DD-AC61CEC8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411F8-3342-4CDD-91AF-10C03AE2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FF384-749E-4422-A3EA-99C74141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4815-E923-4569-B7BF-E13718501525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92BA-30AF-4CEF-9CEC-1FC7252CAD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Triangolo rettango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Connettore 1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7" name="Gallone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Gallone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1BCA-B7BB-44F6-B1B3-4D95620583C9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63AC-A33B-4CA9-980D-F6119FA6B1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Triangolo rettango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Connettore 1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F168-E8FE-4CA9-AB00-C5F68039050A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9914-AE49-4101-8D4E-DB7CE6FB11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DF36-D8D9-4923-AD84-1C4C732BCA40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E8B1-833C-4EFA-9EE3-E26D39FF7C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Triangolo rettango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1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Connettore 1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94B0-5CEC-4309-BD19-56549C0F3FBC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C2FB-B230-4A4E-B4B2-D758B24F42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3829-C365-4FD9-B1FB-517EE5475D0C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8CA7-FD9F-4ACF-B093-1AA4B1C3F6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igura a mano libera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igura a mano libera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Triangolo rettangolo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69" name="Triangolo rettangolo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Connettore 1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2" name="Gallone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Gallone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0E3C-D525-4B52-A8F2-0E68E046AF69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9D06-16A4-4312-BC6D-774DEE739F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036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A65D-7A91-481C-95B5-2095C0D1CF7B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353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une di 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506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B3AA-8B24-4AD1-9393-2A4DFA7567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324000" y="1235160"/>
            <a:ext cx="8351640" cy="2770200"/>
          </a:xfrm>
          <a:prstGeom prst="rect">
            <a:avLst/>
          </a:prstGeom>
          <a:solidFill>
            <a:srgbClr val="b5b5b5"/>
          </a:solidFill>
          <a:ln cap="sq"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826920" y="1413000"/>
            <a:ext cx="7632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CONTRATTO DI SERVIZIO ILLUMINAZIONE PUB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6699"/>
                </a:solidFill>
                <a:latin typeface="Arial"/>
                <a:ea typeface="Arial"/>
              </a:rPr>
              <a:t>RELAZIONE I SEMESTRE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(ex art. 12, comma 4,  Regolamento di disciplina dei controlli intern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8459640" y="640872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C5271-4957-4117-B2A0-8A5E255B1F5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2" descr="logo"/>
          <p:cNvPicPr/>
          <p:nvPr/>
        </p:nvPicPr>
        <p:blipFill>
          <a:blip r:embed="rId1"/>
          <a:stretch/>
        </p:blipFill>
        <p:spPr>
          <a:xfrm>
            <a:off x="179280" y="0"/>
            <a:ext cx="704880" cy="942840"/>
          </a:xfrm>
          <a:prstGeom prst="rect">
            <a:avLst/>
          </a:prstGeom>
          <a:ln w="0">
            <a:noFill/>
          </a:ln>
        </p:spPr>
      </p:pic>
      <p:sp>
        <p:nvSpPr>
          <p:cNvPr id="367" name="Rettangolo 2"/>
          <p:cNvSpPr/>
          <p:nvPr/>
        </p:nvSpPr>
        <p:spPr>
          <a:xfrm>
            <a:off x="893160" y="17928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COMU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di BRES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80452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1120" y="17784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SLA (livello del serviz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320" y="792000"/>
            <a:ext cx="91440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Arial"/>
              </a:rPr>
              <a:t>I livelli di servizio individuali sono  stati divisi in tre grupp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Arial"/>
              </a:rPr>
              <a:t>- Attività ordin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Arial"/>
              </a:rPr>
              <a:t>- Interventi di manutenzione ordinaria e straordinaria, programmati e a chiam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Arial"/>
              </a:rPr>
              <a:t>- Pianificazione degli interventi evolutiv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34920" y="2392200"/>
          <a:ext cx="9034560" cy="3525840"/>
        </p:xfrm>
        <a:graphic>
          <a:graphicData uri="http://schemas.openxmlformats.org/drawingml/2006/table">
            <a:tbl>
              <a:tblPr/>
              <a:tblGrid>
                <a:gridCol w="1508040"/>
                <a:gridCol w="4324320"/>
                <a:gridCol w="1584360"/>
                <a:gridCol w="1617840"/>
              </a:tblGrid>
              <a:tr h="719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SL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Standard di qualit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Risulta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Crusco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0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Attività ordin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Garantire il livello di illuminazione contrattuale ann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dell'impianto  pari a 4.000/4.150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4.126 o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(201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9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Interventi d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Manuten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ordinaria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straordinari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programmati e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chiama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Effettuare gli interventi entro i termini contrattual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- Ripristino punti luce entro 5 g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buClr>
                          <a:srgbClr val="006699"/>
                        </a:buClr>
                        <a:buSzPct val="68000"/>
                        <a:buFont typeface="Arial"/>
                        <a:buChar char="-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- Lavaggio parte ottica apparecchi d'illuminazione: 5 an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- Sostegni, gruppi di comando, reg. di flusso :interven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entro 24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8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0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N° interventi. eseg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2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------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6480000" y="-3240"/>
            <a:ext cx="2590920" cy="692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524720" y="379080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8172360" y="3933360"/>
            <a:ext cx="4320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40720" y="3357720"/>
            <a:ext cx="1033560" cy="1125360"/>
          </a:xfrm>
          <a:custGeom>
            <a:avLst/>
            <a:gdLst>
              <a:gd name="textAreaLeft" fmla="*/ 0 w 1033560"/>
              <a:gd name="textAreaRight" fmla="*/ 1033560 w 1033560"/>
              <a:gd name="textAreaTop" fmla="*/ 0 h 1125360"/>
              <a:gd name="textAreaBottom" fmla="*/ 420480 h 1125360"/>
            </a:gdLst>
            <a:ahLst/>
            <a:rect l="textAreaLeft" t="textAreaTop" r="textAreaRight" b="textAreaBottom"/>
            <a:pathLst>
              <a:path w="21600" h="21600">
                <a:moveTo>
                  <a:pt x="2517" y="11072"/>
                </a:moveTo>
                <a:cubicBezTo>
                  <a:pt x="2514" y="10982"/>
                  <a:pt x="2513" y="10891"/>
                  <a:pt x="2513" y="10800"/>
                </a:cubicBezTo>
                <a:cubicBezTo>
                  <a:pt x="2513" y="6223"/>
                  <a:pt x="6223" y="2513"/>
                  <a:pt x="10800" y="2513"/>
                </a:cubicBezTo>
                <a:cubicBezTo>
                  <a:pt x="15376" y="2513"/>
                  <a:pt x="19087" y="6223"/>
                  <a:pt x="19087" y="10800"/>
                </a:cubicBezTo>
                <a:cubicBezTo>
                  <a:pt x="19087" y="10891"/>
                  <a:pt x="19085" y="10982"/>
                  <a:pt x="19082" y="11072"/>
                </a:cubicBezTo>
                <a:lnTo>
                  <a:pt x="21594" y="11155"/>
                </a:lnTo>
                <a:cubicBezTo>
                  <a:pt x="21598" y="11037"/>
                  <a:pt x="21600" y="1091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918"/>
                  <a:pt x="1" y="11037"/>
                  <a:pt x="5" y="11155"/>
                </a:cubicBezTo>
                <a:lnTo>
                  <a:pt x="2517" y="11072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08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8360" y="40068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5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740720" y="4797360"/>
            <a:ext cx="1033560" cy="1125720"/>
          </a:xfrm>
          <a:custGeom>
            <a:avLst/>
            <a:gdLst>
              <a:gd name="textAreaLeft" fmla="*/ 0 w 1033560"/>
              <a:gd name="textAreaRight" fmla="*/ 1033560 w 1033560"/>
              <a:gd name="textAreaTop" fmla="*/ 0 h 1125720"/>
              <a:gd name="textAreaBottom" fmla="*/ 420840 h 1125720"/>
            </a:gdLst>
            <a:ahLst/>
            <a:rect l="textAreaLeft" t="textAreaTop" r="textAreaRight" b="textAreaBottom"/>
            <a:pathLst>
              <a:path w="21600" h="21600">
                <a:moveTo>
                  <a:pt x="2517" y="11072"/>
                </a:moveTo>
                <a:cubicBezTo>
                  <a:pt x="2514" y="10982"/>
                  <a:pt x="2513" y="10891"/>
                  <a:pt x="2513" y="10800"/>
                </a:cubicBezTo>
                <a:cubicBezTo>
                  <a:pt x="2513" y="6223"/>
                  <a:pt x="6223" y="2513"/>
                  <a:pt x="10800" y="2513"/>
                </a:cubicBezTo>
                <a:cubicBezTo>
                  <a:pt x="15376" y="2513"/>
                  <a:pt x="19087" y="6223"/>
                  <a:pt x="19087" y="10800"/>
                </a:cubicBezTo>
                <a:cubicBezTo>
                  <a:pt x="19087" y="10891"/>
                  <a:pt x="19085" y="10982"/>
                  <a:pt x="19082" y="11072"/>
                </a:cubicBezTo>
                <a:lnTo>
                  <a:pt x="21594" y="11155"/>
                </a:lnTo>
                <a:cubicBezTo>
                  <a:pt x="21598" y="11037"/>
                  <a:pt x="21600" y="1091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918"/>
                  <a:pt x="1" y="11037"/>
                  <a:pt x="5" y="11155"/>
                </a:cubicBezTo>
                <a:lnTo>
                  <a:pt x="2517" y="11072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08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388360" y="54450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5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8101080" y="5373720"/>
            <a:ext cx="4316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80452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08000" y="24912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SLA (livello del servizio)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80000" y="0"/>
            <a:ext cx="2664000" cy="692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14480" y="984240"/>
          <a:ext cx="8910360" cy="4146480"/>
        </p:xfrm>
        <a:graphic>
          <a:graphicData uri="http://schemas.openxmlformats.org/drawingml/2006/table">
            <a:tbl>
              <a:tblPr/>
              <a:tblGrid>
                <a:gridCol w="1865160"/>
                <a:gridCol w="3960720"/>
                <a:gridCol w="1379520"/>
                <a:gridCol w="1704960"/>
              </a:tblGrid>
              <a:tr h="474840">
                <a:tc>
                  <a:txBody>
                    <a:bodyPr lIns="0" rIns="0" tIns="248400" bIns="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Pianificazione degli interventi evolutivi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Standard di qualit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Risulta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Crusco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0" rIns="0" tIns="248400" bIns="0" anchor="t">
                      <a:noAutofit/>
                    </a:bodyPr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Sostituzione punti luce 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L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8792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Rispetto SAL del cronoprogram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42.508 </a:t>
                      </a:r>
                      <a:r>
                        <a:rPr b="1" lang="it-IT" sz="10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(99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9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(Restano le installazioni monumentali del Castello e Piazza Vittoria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920">
                <a:tc>
                  <a:txBody>
                    <a:bodyPr lIns="0" rIns="0" tIns="248400" bIns="0" anchor="t">
                      <a:noAutofit/>
                    </a:bodyPr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Verniciatura sostegni 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accia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8792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Rispetto SAL del cronoprogram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22.691 </a:t>
                      </a:r>
                      <a:r>
                        <a:rPr b="1" lang="it-IT" sz="10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(100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360">
                <a:tc>
                  <a:txBody>
                    <a:bodyPr lIns="0" rIns="0" tIns="248400" bIns="0" anchor="t">
                      <a:noAutofit/>
                    </a:bodyPr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Nuovi punti lu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Esecuzione del nuovo impianto d’illuminazione n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rispetto del programma di affidamento del Settore d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Competenza; li conosciamo a collaudo e rientrano n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computo del canone annu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48400" bIns="0" anchor="t">
                      <a:noAutofit/>
                    </a:bodyPr>
                    <a:p>
                      <a:pPr algn="just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3" name=""/>
          <p:cNvSpPr/>
          <p:nvPr/>
        </p:nvSpPr>
        <p:spPr>
          <a:xfrm>
            <a:off x="7596360" y="2924280"/>
            <a:ext cx="1033200" cy="1125360"/>
          </a:xfrm>
          <a:custGeom>
            <a:avLst/>
            <a:gdLst>
              <a:gd name="textAreaLeft" fmla="*/ 0 w 1033200"/>
              <a:gd name="textAreaRight" fmla="*/ 1033200 w 1033200"/>
              <a:gd name="textAreaTop" fmla="*/ 0 h 1125360"/>
              <a:gd name="textAreaBottom" fmla="*/ 420480 h 1125360"/>
            </a:gdLst>
            <a:ahLst/>
            <a:rect l="textAreaLeft" t="textAreaTop" r="textAreaRight" b="textAreaBottom"/>
            <a:pathLst>
              <a:path w="21600" h="21600">
                <a:moveTo>
                  <a:pt x="2517" y="11072"/>
                </a:moveTo>
                <a:cubicBezTo>
                  <a:pt x="2514" y="10982"/>
                  <a:pt x="2513" y="10891"/>
                  <a:pt x="2513" y="10800"/>
                </a:cubicBezTo>
                <a:cubicBezTo>
                  <a:pt x="2513" y="6223"/>
                  <a:pt x="6223" y="2513"/>
                  <a:pt x="10800" y="2513"/>
                </a:cubicBezTo>
                <a:cubicBezTo>
                  <a:pt x="15376" y="2513"/>
                  <a:pt x="19087" y="6223"/>
                  <a:pt x="19087" y="10800"/>
                </a:cubicBezTo>
                <a:cubicBezTo>
                  <a:pt x="19087" y="10891"/>
                  <a:pt x="19085" y="10982"/>
                  <a:pt x="19082" y="11072"/>
                </a:cubicBezTo>
                <a:lnTo>
                  <a:pt x="21594" y="11155"/>
                </a:lnTo>
                <a:cubicBezTo>
                  <a:pt x="21598" y="11037"/>
                  <a:pt x="21600" y="1091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918"/>
                  <a:pt x="1" y="11037"/>
                  <a:pt x="5" y="11155"/>
                </a:cubicBezTo>
                <a:lnTo>
                  <a:pt x="2517" y="11072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08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67640" y="4149720"/>
            <a:ext cx="1033560" cy="1125720"/>
          </a:xfrm>
          <a:custGeom>
            <a:avLst/>
            <a:gdLst>
              <a:gd name="textAreaLeft" fmla="*/ 0 w 1033560"/>
              <a:gd name="textAreaRight" fmla="*/ 1033560 w 1033560"/>
              <a:gd name="textAreaTop" fmla="*/ 0 h 1125720"/>
              <a:gd name="textAreaBottom" fmla="*/ 420840 h 1125720"/>
            </a:gdLst>
            <a:ahLst/>
            <a:rect l="textAreaLeft" t="textAreaTop" r="textAreaRight" b="textAreaBottom"/>
            <a:pathLst>
              <a:path w="21600" h="21600">
                <a:moveTo>
                  <a:pt x="2517" y="11072"/>
                </a:moveTo>
                <a:cubicBezTo>
                  <a:pt x="2514" y="10982"/>
                  <a:pt x="2513" y="10891"/>
                  <a:pt x="2513" y="10800"/>
                </a:cubicBezTo>
                <a:cubicBezTo>
                  <a:pt x="2513" y="6223"/>
                  <a:pt x="6223" y="2513"/>
                  <a:pt x="10800" y="2513"/>
                </a:cubicBezTo>
                <a:cubicBezTo>
                  <a:pt x="15376" y="2513"/>
                  <a:pt x="19087" y="6223"/>
                  <a:pt x="19087" y="10800"/>
                </a:cubicBezTo>
                <a:cubicBezTo>
                  <a:pt x="19087" y="10891"/>
                  <a:pt x="19085" y="10982"/>
                  <a:pt x="19082" y="11072"/>
                </a:cubicBezTo>
                <a:lnTo>
                  <a:pt x="21594" y="11155"/>
                </a:lnTo>
                <a:cubicBezTo>
                  <a:pt x="21598" y="11037"/>
                  <a:pt x="21600" y="1091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918"/>
                  <a:pt x="1" y="11037"/>
                  <a:pt x="5" y="11155"/>
                </a:cubicBezTo>
                <a:lnTo>
                  <a:pt x="2517" y="11072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08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956720" y="4723920"/>
            <a:ext cx="502920" cy="180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316720" y="472428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5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596360" y="1700280"/>
            <a:ext cx="1033200" cy="1125360"/>
          </a:xfrm>
          <a:custGeom>
            <a:avLst/>
            <a:gdLst>
              <a:gd name="textAreaLeft" fmla="*/ 0 w 1033200"/>
              <a:gd name="textAreaRight" fmla="*/ 1033200 w 1033200"/>
              <a:gd name="textAreaTop" fmla="*/ 0 h 1125360"/>
              <a:gd name="textAreaBottom" fmla="*/ 420480 h 1125360"/>
            </a:gdLst>
            <a:ahLst/>
            <a:rect l="textAreaLeft" t="textAreaTop" r="textAreaRight" b="textAreaBottom"/>
            <a:pathLst>
              <a:path w="21600" h="21600">
                <a:moveTo>
                  <a:pt x="2517" y="11072"/>
                </a:moveTo>
                <a:cubicBezTo>
                  <a:pt x="2514" y="10982"/>
                  <a:pt x="2513" y="10891"/>
                  <a:pt x="2513" y="10800"/>
                </a:cubicBezTo>
                <a:cubicBezTo>
                  <a:pt x="2513" y="6223"/>
                  <a:pt x="6223" y="2513"/>
                  <a:pt x="10800" y="2513"/>
                </a:cubicBezTo>
                <a:cubicBezTo>
                  <a:pt x="15376" y="2513"/>
                  <a:pt x="19087" y="6223"/>
                  <a:pt x="19087" y="10800"/>
                </a:cubicBezTo>
                <a:cubicBezTo>
                  <a:pt x="19087" y="10891"/>
                  <a:pt x="19085" y="10982"/>
                  <a:pt x="19082" y="11072"/>
                </a:cubicBezTo>
                <a:lnTo>
                  <a:pt x="21594" y="11155"/>
                </a:lnTo>
                <a:cubicBezTo>
                  <a:pt x="21598" y="11037"/>
                  <a:pt x="21600" y="1091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918"/>
                  <a:pt x="1" y="11037"/>
                  <a:pt x="5" y="11155"/>
                </a:cubicBezTo>
                <a:lnTo>
                  <a:pt x="2517" y="11072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08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7885080" y="3499920"/>
            <a:ext cx="5032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885080" y="2276640"/>
            <a:ext cx="5032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172360" y="2276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5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172360" y="350028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5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CasellaDiTesto 3"/>
          <p:cNvSpPr/>
          <p:nvPr/>
        </p:nvSpPr>
        <p:spPr>
          <a:xfrm>
            <a:off x="826920" y="1146240"/>
            <a:ext cx="7182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Prem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Ogg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Dati sul serviz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- Alleg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e 5"/>
          <p:cNvSpPr/>
          <p:nvPr/>
        </p:nvSpPr>
        <p:spPr>
          <a:xfrm>
            <a:off x="6588000" y="216000"/>
            <a:ext cx="2556000" cy="6919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egnaposto numero diapositiva 2"/>
          <p:cNvSpPr/>
          <p:nvPr/>
        </p:nvSpPr>
        <p:spPr>
          <a:xfrm>
            <a:off x="8459640" y="640872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C907-7229-41F8-82A4-D9EC8F5D77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ttangolo 1"/>
          <p:cNvSpPr/>
          <p:nvPr/>
        </p:nvSpPr>
        <p:spPr>
          <a:xfrm>
            <a:off x="657360" y="3141720"/>
            <a:ext cx="6902280" cy="792000"/>
          </a:xfrm>
          <a:prstGeom prst="rect">
            <a:avLst/>
          </a:prstGeom>
          <a:solidFill>
            <a:srgbClr val="b5b5b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CasellaDiTesto 3"/>
          <p:cNvSpPr/>
          <p:nvPr/>
        </p:nvSpPr>
        <p:spPr>
          <a:xfrm>
            <a:off x="826920" y="1146240"/>
            <a:ext cx="7182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Prem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Ogg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Dati sul serviz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- Alleg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e 5"/>
          <p:cNvSpPr/>
          <p:nvPr/>
        </p:nvSpPr>
        <p:spPr>
          <a:xfrm>
            <a:off x="6588000" y="216000"/>
            <a:ext cx="2556000" cy="6919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egnaposto numero diapositiva 2"/>
          <p:cNvSpPr/>
          <p:nvPr/>
        </p:nvSpPr>
        <p:spPr>
          <a:xfrm>
            <a:off x="8459640" y="640872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933E-8803-470C-8945-ED8BF63D8D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309600" y="1268280"/>
            <a:ext cx="6048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006699"/>
              </a:buClr>
              <a:buFont typeface="Arial"/>
              <a:buChar char="­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Processo del monitoraggio (allegato 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6699"/>
              </a:buClr>
              <a:buFont typeface="Arial"/>
              <a:buChar char="­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Metodologia dell’analisi (allegato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6699"/>
              </a:buClr>
              <a:buFont typeface="Arial"/>
              <a:buChar char="­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Corpi illuminanti (allegato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6699"/>
              </a:buClr>
              <a:buFont typeface="Arial"/>
              <a:buChar char="­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6699"/>
              </a:buClr>
              <a:buFont typeface="Arial"/>
              <a:buChar char="­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611280" y="260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Alleg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e 4"/>
          <p:cNvSpPr/>
          <p:nvPr/>
        </p:nvSpPr>
        <p:spPr>
          <a:xfrm>
            <a:off x="6516720" y="216000"/>
            <a:ext cx="2627280" cy="6919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egnaposto numero diapositiva 1"/>
          <p:cNvSpPr/>
          <p:nvPr/>
        </p:nvSpPr>
        <p:spPr>
          <a:xfrm>
            <a:off x="8388360" y="6408720"/>
            <a:ext cx="62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C1F9-EAA1-45F9-BA07-C75CE33F46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egnaposto numero diapositiva 1"/>
          <p:cNvSpPr/>
          <p:nvPr/>
        </p:nvSpPr>
        <p:spPr>
          <a:xfrm>
            <a:off x="8459640" y="640872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0824-CBF7-43A1-83F2-A216B26F29E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0" y="333360"/>
            <a:ext cx="804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Processo del monitoraggio del serviz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08000" y="1197000"/>
          <a:ext cx="8877240" cy="3452760"/>
        </p:xfrm>
        <a:graphic>
          <a:graphicData uri="http://schemas.openxmlformats.org/drawingml/2006/table">
            <a:tbl>
              <a:tblPr/>
              <a:tblGrid>
                <a:gridCol w="2087640"/>
                <a:gridCol w="431640"/>
                <a:gridCol w="360360"/>
                <a:gridCol w="590760"/>
                <a:gridCol w="706320"/>
                <a:gridCol w="527040"/>
                <a:gridCol w="569880"/>
                <a:gridCol w="630360"/>
                <a:gridCol w="647640"/>
                <a:gridCol w="649080"/>
                <a:gridCol w="576360"/>
                <a:gridCol w="620640"/>
                <a:gridCol w="479520"/>
              </a:tblGrid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i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E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Trasmissione reportistica al Settore Strade (da parte del gestore A2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Trasmissione dati economici relativi al serviz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a partire da gennaio 201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240"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Trasmissione reportistica al Settore Coordinamento partecipate (da parte del gestore A2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Trasmissione dati recla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A regime dal 201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66" name="Ovale 7"/>
          <p:cNvSpPr/>
          <p:nvPr/>
        </p:nvSpPr>
        <p:spPr>
          <a:xfrm>
            <a:off x="7308720" y="23760"/>
            <a:ext cx="1835280" cy="452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Allegato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egnaposto numero diapositiva 1"/>
          <p:cNvSpPr/>
          <p:nvPr/>
        </p:nvSpPr>
        <p:spPr>
          <a:xfrm>
            <a:off x="8532720" y="6408720"/>
            <a:ext cx="480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3C7D-54F1-4A8E-919F-DA654948391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47000"/>
          </a:bodyPr>
          <a:p>
            <a:pPr marL="123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Processo del monitoraggio del servizio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39680" y="765000"/>
          <a:ext cx="8896320" cy="3997440"/>
        </p:xfrm>
        <a:graphic>
          <a:graphicData uri="http://schemas.openxmlformats.org/drawingml/2006/table">
            <a:tbl>
              <a:tblPr/>
              <a:tblGrid>
                <a:gridCol w="1800360"/>
                <a:gridCol w="471240"/>
                <a:gridCol w="576360"/>
                <a:gridCol w="720720"/>
                <a:gridCol w="863640"/>
                <a:gridCol w="293760"/>
                <a:gridCol w="282600"/>
                <a:gridCol w="431640"/>
                <a:gridCol w="432000"/>
                <a:gridCol w="720720"/>
                <a:gridCol w="1079280"/>
                <a:gridCol w="824040"/>
                <a:gridCol w="399960"/>
              </a:tblGrid>
              <a:tr h="34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 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 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i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 l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se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o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4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E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Riunioni periodiche col ges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0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Condivisione con Settore Coordinamento partecip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 </a:t>
                      </a:r>
                      <a:br>
                        <a:rPr sz="1200"/>
                      </a:br>
                      <a:r>
                        <a:rPr b="1" lang="it-IT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ANALISI SERVIZ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 </a:t>
                      </a:r>
                      <a:br>
                        <a:rPr sz="1200"/>
                      </a:br>
                      <a:r>
                        <a:rPr b="1" lang="it-IT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ANALISI BILANCIO E OBIETTIVI ANNO SUCCESSIV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6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Presentazione relazione semestrale ex art 12 Regolamento controlli inte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 </a:t>
                      </a:r>
                      <a:r>
                        <a:rPr b="1" lang="it-IT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BOZZ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br>
                        <a:rPr sz="1200"/>
                      </a:br>
                      <a:r>
                        <a:rPr b="1" lang="it-IT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VERSIONE DEFINITIV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BOZZ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VERSIONE DEFINITIV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0" name="Ovale 7"/>
          <p:cNvSpPr/>
          <p:nvPr/>
        </p:nvSpPr>
        <p:spPr>
          <a:xfrm>
            <a:off x="7308720" y="23760"/>
            <a:ext cx="1835280" cy="452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Allegato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egnaposto numero diapositiva 1"/>
          <p:cNvSpPr/>
          <p:nvPr/>
        </p:nvSpPr>
        <p:spPr>
          <a:xfrm>
            <a:off x="7812000" y="640872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55C5-5AE4-4185-8B83-D91972A13E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Oval 2"/>
          <p:cNvSpPr/>
          <p:nvPr/>
        </p:nvSpPr>
        <p:spPr>
          <a:xfrm>
            <a:off x="7308720" y="23760"/>
            <a:ext cx="1835280" cy="452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llegato b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47000"/>
          </a:bodyPr>
          <a:p>
            <a:pPr marL="123840">
              <a:lnSpc>
                <a:spcPct val="100000"/>
              </a:lnSpc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Metodologia dell’analisi - 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egnaposto numero diapositiva 1"/>
          <p:cNvSpPr/>
          <p:nvPr/>
        </p:nvSpPr>
        <p:spPr>
          <a:xfrm>
            <a:off x="8388360" y="6408720"/>
            <a:ext cx="62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871F-356F-4093-9B33-560EBEBFBA6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08000" y="608040"/>
          <a:ext cx="8280360" cy="5653080"/>
        </p:xfrm>
        <a:graphic>
          <a:graphicData uri="http://schemas.openxmlformats.org/drawingml/2006/table">
            <a:tbl>
              <a:tblPr/>
              <a:tblGrid>
                <a:gridCol w="1150920"/>
                <a:gridCol w="1368360"/>
                <a:gridCol w="1008000"/>
                <a:gridCol w="1944720"/>
                <a:gridCol w="1152720"/>
                <a:gridCol w="1008000"/>
                <a:gridCol w="647640"/>
              </a:tblGrid>
              <a:tr h="3096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icatori risultati di monitoraggio Pubblica Illumin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Categ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Oggetto del monitoragg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odalità di veri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etodologia di  valut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glia di conform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Gestione e manutenzione ordin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Ripristino punto lu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5 gg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pralluoghi a campione su lampade aggiust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nalisi dei tabulati e a vis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0% nei 5 gg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ccensione impian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4.000/4150 ore a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pralluoghi a campione sui quadri in base aTabella astrono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 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Intensità lu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Diagramma di intensità lumino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pralluoghi a campio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isurazione con Lux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Gestione e manutenzione ordin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Lavaggio parte ottica apparecchi illumin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5 an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pralluoghi a campione sula base di quelli pul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 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Gestione e manutenzione ordin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anutenzione gruppi di coma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24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pralluog</a:t>
                      </a:r>
                      <a:r>
                        <a:rPr b="0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hi</a:t>
                      </a: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a campione con verifica punt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 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ManutenzioneStraordin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Interventi non programmabili (dannegg. furti, atti di vandalism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24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pralluog</a:t>
                      </a:r>
                      <a:r>
                        <a:rPr b="0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hi</a:t>
                      </a: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a campione con verifica punt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 vista e rapporto con tempi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0% nelle 24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8352000" y="620640"/>
          <a:ext cx="792000" cy="561636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Clusterizzazione tipologia e rivalutazione utlilità con ingresso l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Oval 2"/>
          <p:cNvSpPr/>
          <p:nvPr/>
        </p:nvSpPr>
        <p:spPr>
          <a:xfrm>
            <a:off x="7308720" y="23760"/>
            <a:ext cx="1835280" cy="452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Allegato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47000"/>
          </a:bodyPr>
          <a:p>
            <a:pPr marL="123840">
              <a:lnSpc>
                <a:spcPct val="100000"/>
              </a:lnSpc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Metodologia dell’analisi - 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egnaposto numero diapositiva 1"/>
          <p:cNvSpPr/>
          <p:nvPr/>
        </p:nvSpPr>
        <p:spPr>
          <a:xfrm>
            <a:off x="8459640" y="640872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62B6-A229-4B78-B36E-D3434B6A7BA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179280" y="476280"/>
          <a:ext cx="7993080" cy="5667480"/>
        </p:xfrm>
        <a:graphic>
          <a:graphicData uri="http://schemas.openxmlformats.org/drawingml/2006/table">
            <a:tbl>
              <a:tblPr/>
              <a:tblGrid>
                <a:gridCol w="1224000"/>
                <a:gridCol w="1297080"/>
                <a:gridCol w="1440000"/>
                <a:gridCol w="1223640"/>
                <a:gridCol w="1224000"/>
                <a:gridCol w="1008360"/>
                <a:gridCol w="576000"/>
              </a:tblGrid>
              <a:tr h="3286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icatori risultati di monitoraggio Pubblica Illumin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Categ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Oggetto del monitoragg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odalità di veri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etodologia di valut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glia di conform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ManutenzioneStraordin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anutenzione linee, sostegni, gruppi di comando e regolat. flus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24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pralluoghi a campione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 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0%  nelle 24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Evolu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stituzione punti luce in 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Cronoprogramma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trimestr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AL e controlli a camp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nalisi SAL e controllo a 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Evolu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Verniciatura sosteg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Cronoprogramma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trimestr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AL e controlli a camp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nalisi SAL e controllo a 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Evolu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Nuovi punti luce nuove a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CRE e  Collau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pralluoghi interv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 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8172360" y="476280"/>
          <a:ext cx="792000" cy="568944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izio lavori gennaio 20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8388360" y="6408720"/>
            <a:ext cx="62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3121E-B2D9-4A07-8DEA-2E4CFF4BBC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308720" y="23760"/>
            <a:ext cx="1835280" cy="452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Allegato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2" marL="1406520" indent="-222120">
              <a:lnSpc>
                <a:spcPct val="100000"/>
              </a:lnSpc>
              <a:tabLst>
                <a:tab algn="l" pos="0"/>
                <a:tab algn="l" pos="1406520"/>
                <a:tab algn="l" pos="2320920"/>
                <a:tab algn="l" pos="3235320"/>
                <a:tab algn="l" pos="4149720"/>
                <a:tab algn="l" pos="5064120"/>
                <a:tab algn="l" pos="5978520"/>
                <a:tab algn="l" pos="6892920"/>
                <a:tab algn="l" pos="7807320"/>
                <a:tab algn="l" pos="8721720"/>
                <a:tab algn="l" pos="9636120"/>
                <a:tab algn="l" pos="10550520"/>
                <a:tab algn="l" pos="1146492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Corpi illuminanti </a:t>
            </a:r>
            <a:r>
              <a:rPr b="1" lang="it-IT" sz="1200" spc="-1" strike="noStrike">
                <a:solidFill>
                  <a:srgbClr val="006699"/>
                </a:solidFill>
                <a:latin typeface="Arial"/>
                <a:ea typeface="Arial"/>
              </a:rPr>
              <a:t>(31 dic. 2013 – 30 giu. 2018)</a:t>
            </a: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	</a:t>
            </a: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971640" y="1341360"/>
          <a:ext cx="6781680" cy="40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341360"/>
                    <a:ext cx="678168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ttangolo 1"/>
          <p:cNvSpPr/>
          <p:nvPr/>
        </p:nvSpPr>
        <p:spPr>
          <a:xfrm>
            <a:off x="625320" y="950760"/>
            <a:ext cx="6902640" cy="655920"/>
          </a:xfrm>
          <a:prstGeom prst="rect">
            <a:avLst/>
          </a:prstGeom>
          <a:solidFill>
            <a:srgbClr val="b5b5b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asellaDiTesto 3"/>
          <p:cNvSpPr/>
          <p:nvPr/>
        </p:nvSpPr>
        <p:spPr>
          <a:xfrm>
            <a:off x="826920" y="1125360"/>
            <a:ext cx="7182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Prem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Ogg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Dati sul serviz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- Alleg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e 5"/>
          <p:cNvSpPr/>
          <p:nvPr/>
        </p:nvSpPr>
        <p:spPr>
          <a:xfrm>
            <a:off x="6516720" y="216000"/>
            <a:ext cx="2627280" cy="6919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egnaposto numero diapositiva 2"/>
          <p:cNvSpPr/>
          <p:nvPr/>
        </p:nvSpPr>
        <p:spPr>
          <a:xfrm>
            <a:off x="8244000" y="6408720"/>
            <a:ext cx="76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18D4-4C7B-4CF6-AD42-ACF696D0CE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179280" y="549360"/>
            <a:ext cx="8809200" cy="56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Il contratto per il servizio di pubblica illuminazione è stato affidato alla società A2A Reti Elettriche S.p.A. e consiste nelle attività di : Gestione e Manutenzione Ordinaria, Manutenzione Straordinaria ed Attività Evolutiv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Il servizio di illuminazione del territorio cittadino è a beneficio dell'intera collettività che abita e frequenta la città di Brescia. Non è pertanto stata adottata una specifica carta dei servizi, e si è deciso di non misurare il grado di soddisfazione del cliente.  E’ stato strutturato il sistema di raccolta reclami di guasti / malfunzionamenti,  con segnalazioni per i relativi interventi</a:t>
            </a:r>
            <a:r>
              <a:rPr b="1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attraverso la compilazione del modulo sul sito web di A2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La Gestione e Manutenzione Ordinaria e Straordinaria avvengono con interventi programmati e su chiamata</a:t>
            </a:r>
            <a:r>
              <a:rPr b="1" lang="it-IT" sz="1400" spc="-1" strike="noStrike" baseline="30000">
                <a:solidFill>
                  <a:srgbClr val="006699"/>
                </a:solidFill>
                <a:latin typeface="Arial"/>
                <a:ea typeface="Arial"/>
              </a:rPr>
              <a:t>(1)</a:t>
            </a: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L'attività evolutiva è specifica del contratto e segue la pianificazione allegata alla relazione semestrale che rappresenta lo strumento di controll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Gli impianti della P.I. sono di proprietà dell'A2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La definizione degli SLA è effettuata sia in base al dettato contrattuale che alla prass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Le riunioni periodiche non sono state effettuate in questo semestre, ma programmate in linea con lo schema del gruppo di lavo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Arial"/>
                <a:ea typeface="Arial"/>
              </a:rPr>
              <a:t>Deve esser definito anche il flusso di accesso alle informazioni anche attraverso specifiche modalit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(1) L'attivazione della chiamata avviene tramite call center al n°800 933 301 gestito da A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159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   </a:t>
            </a: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Prem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"/>
          <p:cNvSpPr/>
          <p:nvPr/>
        </p:nvSpPr>
        <p:spPr>
          <a:xfrm>
            <a:off x="6480000" y="63360"/>
            <a:ext cx="2664000" cy="692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8317080" y="6408720"/>
            <a:ext cx="696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898AD-8490-44FB-87B6-F11C5925C5B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ttangolo 1"/>
          <p:cNvSpPr/>
          <p:nvPr/>
        </p:nvSpPr>
        <p:spPr>
          <a:xfrm>
            <a:off x="625320" y="1677960"/>
            <a:ext cx="6902640" cy="655560"/>
          </a:xfrm>
          <a:prstGeom prst="rect">
            <a:avLst/>
          </a:prstGeom>
          <a:solidFill>
            <a:srgbClr val="b5b5b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CasellaDiTesto 3"/>
          <p:cNvSpPr/>
          <p:nvPr/>
        </p:nvSpPr>
        <p:spPr>
          <a:xfrm>
            <a:off x="826920" y="1125360"/>
            <a:ext cx="7182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Prem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Ogg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Dati sul serviz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- Alleg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e 5"/>
          <p:cNvSpPr/>
          <p:nvPr/>
        </p:nvSpPr>
        <p:spPr>
          <a:xfrm>
            <a:off x="6588000" y="216000"/>
            <a:ext cx="2556000" cy="6919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egnaposto numero diapositiva 2"/>
          <p:cNvSpPr/>
          <p:nvPr/>
        </p:nvSpPr>
        <p:spPr>
          <a:xfrm>
            <a:off x="8317080" y="6408720"/>
            <a:ext cx="696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EE54-BB3F-4F0D-AD29-48FD8CA03C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08800" cy="5922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8532720" y="6408720"/>
            <a:ext cx="465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341A7-AA22-4909-AF2B-2231DC29A3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08000" y="404640"/>
          <a:ext cx="8877240" cy="6400800"/>
        </p:xfrm>
        <a:graphic>
          <a:graphicData uri="http://schemas.openxmlformats.org/drawingml/2006/table">
            <a:tbl>
              <a:tblPr/>
              <a:tblGrid>
                <a:gridCol w="1054080"/>
                <a:gridCol w="2089080"/>
                <a:gridCol w="1800360"/>
                <a:gridCol w="3933720"/>
              </a:tblGrid>
              <a:tr h="209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TTIVITA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DESCRI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INTERVEN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programmato   /   chiam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Ord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Gestione illum.ne pubblic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                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rapp. punto luce x abitante = 1/5 per A2A a BS e 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rapp. punto luce x abitante = 1/20 per Roma e Cremo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rapporto punto luce x abitante = 1/10 per Torino e Ge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Fornitura energia elett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               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7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anutenzione          ord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Line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         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Guasti/furti/topi/minimi per cavi obsole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Sostegn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        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verifica meccanica ed elettrica (1.000 pali/ann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  Centri luminos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                 X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Gruppi di comand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        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Regolatori di flus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        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2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anuten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traordina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Sostegn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                 X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(sostegni circa 200/anno). Danneggiamenti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tti di vandalism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  Centri luminos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        X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Obsolescenza/guas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buClr>
                          <a:srgbClr val="2da2bf"/>
                        </a:buClr>
                        <a:buSzPct val="68000"/>
                        <a:buFont typeface="Arial"/>
                        <a:buChar char="-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Gruppi di comand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       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Obsolescenza/gua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Regolatori di fluss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        X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Obsolescenza/gua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Pozzetti e chiusi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       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Cedimento strutturale/insonorizz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Evolu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 Sostituzione punti luce in L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        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3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3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99% (Restano le installazioni monumentali del Castello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3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Piazza Vittori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3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Verniciatura sostegn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        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3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complet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Nuovi punti lu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X                  </a:t>
                      </a:r>
                      <a:r>
                        <a:rPr b="1" lang="it-IT" sz="12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3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interventi eseguiti da vari Settori (Strade, Verde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3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Urbanistica, Piani di Zona, Mobilità …...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218440" cy="7444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8459640" y="6408720"/>
            <a:ext cx="5382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212BE-9217-42A3-AB6C-F2D0EE4798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08000" y="1052640"/>
          <a:ext cx="8893080" cy="4824360"/>
        </p:xfrm>
        <a:graphic>
          <a:graphicData uri="http://schemas.openxmlformats.org/drawingml/2006/table">
            <a:tbl>
              <a:tblPr/>
              <a:tblGrid>
                <a:gridCol w="2328840"/>
                <a:gridCol w="2190600"/>
                <a:gridCol w="437364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1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TRUTTURA ILLUMIN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1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1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1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Microsoft YaHei"/>
                          <a:ea typeface="Arial"/>
                        </a:rPr>
                        <a:t>°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corpi lu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1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43.3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ggiornamento trimestrale - allegato 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1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(in 1 ann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Microsoft YaHei"/>
                          <a:ea typeface="Arial"/>
                        </a:rPr>
                        <a:t>°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ore di accensione gg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Accensione e spegnimento sono effettuati in corrispondenza d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tramonto e alba coma da tabella astronomica allegata. Il sistema è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dotato di fotocellula – allegato 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1 ore e 14 min (11,2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Regolazione Intensità d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illumin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ono disponibili e da analizz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L'intensità luminosa è variabile in funzione della posizion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geografica dell'impianto e dell'orario di accensione (maggior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intensità all’accensione e allo spegnimento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Microsoft YaHei"/>
                          <a:ea typeface="Arial"/>
                        </a:rPr>
                        <a:t>°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ore di accensione annuo pu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lu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circa 4.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Il dato medio è reale dell'anno 2013 ottenuto dal crepuscolare d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sistema di telecontrollo (del 95%) della P.I. MAESTRO _ da contrat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è variabile  4.000/4.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Microsoft YaHei"/>
                          <a:ea typeface="Arial"/>
                        </a:rPr>
                        <a:t>°</a:t>
                      </a: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 ore di accensione to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75 milioni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consumo di energia elettrica [ kw 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8.075.428  KWh (31.12.201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86 KWh/  punto luce medio annu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000" spc="-1" strike="noStrike">
                          <a:solidFill>
                            <a:srgbClr val="008080"/>
                          </a:solidFill>
                          <a:latin typeface="Arial"/>
                          <a:ea typeface="Arial"/>
                        </a:rPr>
                        <a:t>186 KWh corrispondono a circa 45,59 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ttangolo 1"/>
          <p:cNvSpPr/>
          <p:nvPr/>
        </p:nvSpPr>
        <p:spPr>
          <a:xfrm>
            <a:off x="657360" y="2408400"/>
            <a:ext cx="6902280" cy="655560"/>
          </a:xfrm>
          <a:prstGeom prst="rect">
            <a:avLst/>
          </a:prstGeom>
          <a:solidFill>
            <a:srgbClr val="b5b5b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asellaDiTesto 3"/>
          <p:cNvSpPr/>
          <p:nvPr/>
        </p:nvSpPr>
        <p:spPr>
          <a:xfrm>
            <a:off x="826920" y="1146240"/>
            <a:ext cx="7182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Prem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Ogg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Dati sul serviz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- Alleg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e 5"/>
          <p:cNvSpPr/>
          <p:nvPr/>
        </p:nvSpPr>
        <p:spPr>
          <a:xfrm>
            <a:off x="6516720" y="216000"/>
            <a:ext cx="2627280" cy="6919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egnaposto numero diapositiva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A6B9-6575-49CF-958B-405CF91241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532720" y="6408720"/>
            <a:ext cx="480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70F52-964F-4F04-BF74-4A067336CA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58680"/>
            <a:ext cx="8045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6040" y="13644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</a:rPr>
              <a:t>Dati sul servi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3960" y="765000"/>
            <a:ext cx="806472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001"/>
              </a:spcBef>
              <a:buClr>
                <a:srgbClr val="006699"/>
              </a:buClr>
              <a:buSzPct val="68000"/>
              <a:buFont typeface="Arial"/>
              <a:buChar char="­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Breve sintesi iniz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SLA (livello del serviz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Controllo e pianificazione degli interventi evolu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Reclami:</a:t>
            </a:r>
            <a:r>
              <a:rPr b="1" i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r>
              <a:rPr b="0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Ass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Eventuali dati da enti di cont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Dati da conto economico: </a:t>
            </a:r>
            <a:r>
              <a:rPr b="0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Ass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Fattori evolutivi (affinamento e roll out):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avere tutti i dati (eliminando tutti gli n.d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verificare la fonte dei d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processo dei reclami (verifica provenienz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rodaggio dell’indicatore sinte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408720" y="71280"/>
            <a:ext cx="2732040" cy="65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</a:rPr>
              <a:t>Illuminazione pub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8360" y="6408720"/>
            <a:ext cx="62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0103D-35D2-4206-83CE-ABF949E8A6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539640" y="0"/>
            <a:ext cx="80456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46400" y="136440"/>
            <a:ext cx="29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Arial"/>
                <a:ea typeface="Arial"/>
              </a:rPr>
              <a:t>Dati sul servizio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79280" y="1989000"/>
          <a:ext cx="8856720" cy="4680000"/>
        </p:xfrm>
        <a:graphic>
          <a:graphicData uri="http://schemas.openxmlformats.org/drawingml/2006/table">
            <a:tbl>
              <a:tblPr/>
              <a:tblGrid>
                <a:gridCol w="2306880"/>
                <a:gridCol w="5038560"/>
                <a:gridCol w="1511280"/>
              </a:tblGrid>
              <a:tr h="1261800">
                <a:tc>
                  <a:txBody>
                    <a:bodyPr lIns="90000" rIns="90000" tIns="0" bIns="0" anchor="t">
                      <a:noAutofit/>
                    </a:bodyPr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S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(livello del serviz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Nel periodo monitorato il servizio è stato in generale  eseguito co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previsto nel contratto. Il gestore opera con competenza a mantene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in efficienza l'impianto della pubblica illuminazione.  Al gesto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viene richiesta una rendicontazione puntuale associata a verifiche 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parte del Settore Strade  mediante sopralluoghi mensili a campio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7280">
                <a:tc>
                  <a:txBody>
                    <a:bodyPr lIns="90000" rIns="90000" tIns="0" bIns="0" anchor="t">
                      <a:noAutofit/>
                    </a:bodyPr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100000"/>
                        </a:lnSpc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Pianificazione degli interventi evoluti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Il programma di efficientamento energetico è ultimato, man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l’illuminazione monumentale del Castello e Piazza Vittoria,  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concordare con la Soprintendenza BB.AA. il cui monitoraggio è svol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a campione mediante sopralluogh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I nuovi punti luce sono monitorati mediante interfaccia con altri Settor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con trasmissione al Settore Strade dell'atto di affidamento  ad A2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A collaudo il Settore Strade provvede a verificare la relativ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realizzazio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lIns="90000" rIns="90000" tIns="0" bIns="0" anchor="t">
                      <a:noAutofit/>
                    </a:bodyPr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Gestione recl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109440">
                        <a:lnSpc>
                          <a:spcPct val="3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100000"/>
                        </a:lnSpc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6699"/>
                          </a:solidFill>
                          <a:latin typeface="Arial"/>
                          <a:ea typeface="Microsoft YaHei"/>
                        </a:rPr>
                        <a:t>Sul portale di A2A è attivato un sito per reclami. Non risultano pervenuti reclami inerenti il servizio della pubblica illuminazio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3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109440">
                        <a:lnSpc>
                          <a:spcPct val="3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9440"/>
                          <a:tab algn="l" pos="557280"/>
                          <a:tab algn="l" pos="1006560"/>
                          <a:tab algn="l" pos="1455840"/>
                          <a:tab algn="l" pos="1905120"/>
                          <a:tab algn="l" pos="2354400"/>
                          <a:tab algn="l" pos="2803680"/>
                          <a:tab algn="l" pos="3252960"/>
                          <a:tab algn="l" pos="3701880"/>
                          <a:tab algn="l" pos="4151160"/>
                          <a:tab algn="l" pos="4600440"/>
                          <a:tab algn="l" pos="5049720"/>
                          <a:tab algn="l" pos="5499000"/>
                          <a:tab algn="l" pos="5948280"/>
                          <a:tab algn="l" pos="6397560"/>
                          <a:tab algn="l" pos="6846840"/>
                          <a:tab algn="l" pos="7296120"/>
                          <a:tab algn="l" pos="7745400"/>
                          <a:tab algn="l" pos="8194680"/>
                          <a:tab algn="l" pos="8643960"/>
                          <a:tab algn="l" pos="9093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Oval 67"/>
          <p:cNvSpPr/>
          <p:nvPr/>
        </p:nvSpPr>
        <p:spPr>
          <a:xfrm>
            <a:off x="6443640" y="0"/>
            <a:ext cx="2635200" cy="652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cc"/>
                </a:solidFill>
                <a:latin typeface="Arial"/>
                <a:ea typeface="Arial"/>
              </a:rPr>
              <a:t>Pubblica Illumin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9"/>
          <p:cNvSpPr/>
          <p:nvPr/>
        </p:nvSpPr>
        <p:spPr>
          <a:xfrm>
            <a:off x="108000" y="652320"/>
            <a:ext cx="58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      </a:t>
            </a:r>
            <a:r>
              <a:rPr b="1" lang="it-IT" sz="1600" spc="-1" strike="noStrike">
                <a:solidFill>
                  <a:srgbClr val="006699"/>
                </a:solidFill>
                <a:latin typeface="Arial"/>
                <a:ea typeface="Arial"/>
              </a:rPr>
              <a:t>Sintesi dei 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egnaposto numero diapositiva 1"/>
          <p:cNvSpPr/>
          <p:nvPr/>
        </p:nvSpPr>
        <p:spPr>
          <a:xfrm>
            <a:off x="8459640" y="640872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61F5-73FA-4DD6-A3E4-D515FE50EB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596360" y="5807160"/>
            <a:ext cx="2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747280" y="5807160"/>
            <a:ext cx="2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96360" y="414972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748720" y="414972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8393040" y="4005360"/>
            <a:ext cx="177840" cy="28872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812000" y="3716280"/>
            <a:ext cx="1005120" cy="1123920"/>
          </a:xfrm>
          <a:custGeom>
            <a:avLst/>
            <a:gdLst>
              <a:gd name="textAreaLeft" fmla="*/ 0 w 1005120"/>
              <a:gd name="textAreaRight" fmla="*/ 1005480 w 1005120"/>
              <a:gd name="textAreaTop" fmla="*/ 0 h 1123920"/>
              <a:gd name="textAreaBottom" fmla="*/ 420120 h 1123920"/>
            </a:gdLst>
            <a:ahLst/>
            <a:rect l="textAreaLeft" t="textAreaTop" r="textAreaRight" b="textAreaBottom"/>
            <a:pathLst>
              <a:path w="21600" h="21600">
                <a:moveTo>
                  <a:pt x="2517" y="11072"/>
                </a:moveTo>
                <a:cubicBezTo>
                  <a:pt x="2514" y="10982"/>
                  <a:pt x="2513" y="10891"/>
                  <a:pt x="2513" y="10800"/>
                </a:cubicBezTo>
                <a:cubicBezTo>
                  <a:pt x="2513" y="6223"/>
                  <a:pt x="6223" y="2513"/>
                  <a:pt x="10800" y="2513"/>
                </a:cubicBezTo>
                <a:cubicBezTo>
                  <a:pt x="15376" y="2513"/>
                  <a:pt x="19087" y="6223"/>
                  <a:pt x="19087" y="10800"/>
                </a:cubicBezTo>
                <a:cubicBezTo>
                  <a:pt x="19087" y="10891"/>
                  <a:pt x="19085" y="10982"/>
                  <a:pt x="19082" y="11072"/>
                </a:cubicBezTo>
                <a:lnTo>
                  <a:pt x="21594" y="11155"/>
                </a:lnTo>
                <a:cubicBezTo>
                  <a:pt x="21598" y="11037"/>
                  <a:pt x="21600" y="1091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918"/>
                  <a:pt x="1" y="11037"/>
                  <a:pt x="5" y="11155"/>
                </a:cubicBezTo>
                <a:lnTo>
                  <a:pt x="2517" y="11072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08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140360" y="260280"/>
            <a:ext cx="1643040" cy="1390680"/>
            <a:chOff x="4140360" y="260280"/>
            <a:chExt cx="1643040" cy="1390680"/>
          </a:xfrm>
        </p:grpSpPr>
        <p:sp>
          <p:nvSpPr>
            <p:cNvPr id="409" name=""/>
            <p:cNvSpPr/>
            <p:nvPr/>
          </p:nvSpPr>
          <p:spPr>
            <a:xfrm>
              <a:off x="4140360" y="260280"/>
              <a:ext cx="1643040" cy="96840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4197240" y="416160"/>
              <a:ext cx="1530360" cy="1234800"/>
              <a:chOff x="4197240" y="416160"/>
              <a:chExt cx="1530360" cy="1234800"/>
            </a:xfrm>
          </p:grpSpPr>
          <p:sp>
            <p:nvSpPr>
              <p:cNvPr id="411" name=""/>
              <p:cNvSpPr/>
              <p:nvPr/>
            </p:nvSpPr>
            <p:spPr>
              <a:xfrm>
                <a:off x="4197240" y="846360"/>
                <a:ext cx="24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480280" y="862200"/>
                <a:ext cx="24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4964040" y="738000"/>
                <a:ext cx="330480" cy="29844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86240" y="416160"/>
                <a:ext cx="1125720" cy="1234800"/>
              </a:xfrm>
              <a:custGeom>
                <a:avLst/>
                <a:gdLst>
                  <a:gd name="textAreaLeft" fmla="*/ 0 w 1125720"/>
                  <a:gd name="textAreaRight" fmla="*/ 1126080 w 1125720"/>
                  <a:gd name="textAreaTop" fmla="*/ 0 h 1234800"/>
                  <a:gd name="textAreaBottom" fmla="*/ 461520 h 123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517" y="11072"/>
                    </a:moveTo>
                    <a:cubicBezTo>
                      <a:pt x="2514" y="10982"/>
                      <a:pt x="2513" y="10891"/>
                      <a:pt x="2513" y="10800"/>
                    </a:cubicBezTo>
                    <a:cubicBezTo>
                      <a:pt x="2513" y="6223"/>
                      <a:pt x="6223" y="2513"/>
                      <a:pt x="10800" y="2513"/>
                    </a:cubicBezTo>
                    <a:cubicBezTo>
                      <a:pt x="15376" y="2513"/>
                      <a:pt x="19087" y="6223"/>
                      <a:pt x="19087" y="10800"/>
                    </a:cubicBezTo>
                    <a:cubicBezTo>
                      <a:pt x="19087" y="10891"/>
                      <a:pt x="19085" y="10982"/>
                      <a:pt x="19082" y="11072"/>
                    </a:cubicBezTo>
                    <a:lnTo>
                      <a:pt x="21594" y="11155"/>
                    </a:lnTo>
                    <a:cubicBezTo>
                      <a:pt x="21598" y="11037"/>
                      <a:pt x="21600" y="1091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0918"/>
                      <a:pt x="1" y="11037"/>
                      <a:pt x="5" y="11155"/>
                    </a:cubicBezTo>
                    <a:lnTo>
                      <a:pt x="2517" y="110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lin ang="10800000"/>
              </a:gra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 flipV="1">
            <a:off x="8244000" y="5950080"/>
            <a:ext cx="4316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12000" y="5373720"/>
            <a:ext cx="1033560" cy="1125360"/>
          </a:xfrm>
          <a:custGeom>
            <a:avLst/>
            <a:gdLst>
              <a:gd name="textAreaLeft" fmla="*/ 0 w 1033560"/>
              <a:gd name="textAreaRight" fmla="*/ 1033560 w 1033560"/>
              <a:gd name="textAreaTop" fmla="*/ 0 h 1125360"/>
              <a:gd name="textAreaBottom" fmla="*/ 420480 h 1125360"/>
            </a:gdLst>
            <a:ahLst/>
            <a:rect l="textAreaLeft" t="textAreaTop" r="textAreaRight" b="textAreaBottom"/>
            <a:pathLst>
              <a:path w="21600" h="21600">
                <a:moveTo>
                  <a:pt x="2517" y="11072"/>
                </a:moveTo>
                <a:cubicBezTo>
                  <a:pt x="2514" y="10982"/>
                  <a:pt x="2513" y="10891"/>
                  <a:pt x="2513" y="10800"/>
                </a:cubicBezTo>
                <a:cubicBezTo>
                  <a:pt x="2513" y="6223"/>
                  <a:pt x="6223" y="2513"/>
                  <a:pt x="10800" y="2513"/>
                </a:cubicBezTo>
                <a:cubicBezTo>
                  <a:pt x="15376" y="2513"/>
                  <a:pt x="19087" y="6223"/>
                  <a:pt x="19087" y="10800"/>
                </a:cubicBezTo>
                <a:cubicBezTo>
                  <a:pt x="19087" y="10891"/>
                  <a:pt x="19085" y="10982"/>
                  <a:pt x="19082" y="11072"/>
                </a:cubicBezTo>
                <a:lnTo>
                  <a:pt x="21594" y="11155"/>
                </a:lnTo>
                <a:cubicBezTo>
                  <a:pt x="21598" y="11037"/>
                  <a:pt x="21600" y="1091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918"/>
                  <a:pt x="1" y="11037"/>
                  <a:pt x="5" y="11155"/>
                </a:cubicBezTo>
                <a:lnTo>
                  <a:pt x="2517" y="11072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08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1052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4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459640" y="60228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5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532720" y="2852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4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550720" y="43639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4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79280" y="1628640"/>
          <a:ext cx="8856720" cy="376200"/>
        </p:xfrm>
        <a:graphic>
          <a:graphicData uri="http://schemas.openxmlformats.org/drawingml/2006/table">
            <a:tbl>
              <a:tblPr/>
              <a:tblGrid>
                <a:gridCol w="2313000"/>
                <a:gridCol w="4989600"/>
                <a:gridCol w="15541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RGO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INTE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IUDIZ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"/>
          <p:cNvSpPr/>
          <p:nvPr/>
        </p:nvSpPr>
        <p:spPr>
          <a:xfrm>
            <a:off x="7596360" y="2637000"/>
            <a:ext cx="2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748720" y="270828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8317080" y="2565000"/>
            <a:ext cx="287280" cy="21924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812000" y="2205000"/>
            <a:ext cx="1106640" cy="1125720"/>
          </a:xfrm>
          <a:custGeom>
            <a:avLst/>
            <a:gdLst>
              <a:gd name="textAreaLeft" fmla="*/ 0 w 1106640"/>
              <a:gd name="textAreaRight" fmla="*/ 1107000 w 1106640"/>
              <a:gd name="textAreaTop" fmla="*/ 0 h 1125720"/>
              <a:gd name="textAreaBottom" fmla="*/ 420840 h 1125720"/>
            </a:gdLst>
            <a:ahLst/>
            <a:rect l="textAreaLeft" t="textAreaTop" r="textAreaRight" b="textAreaBottom"/>
            <a:pathLst>
              <a:path w="21600" h="21600">
                <a:moveTo>
                  <a:pt x="2517" y="11072"/>
                </a:moveTo>
                <a:cubicBezTo>
                  <a:pt x="2514" y="10982"/>
                  <a:pt x="2513" y="10891"/>
                  <a:pt x="2513" y="10800"/>
                </a:cubicBezTo>
                <a:cubicBezTo>
                  <a:pt x="2513" y="6223"/>
                  <a:pt x="6223" y="2513"/>
                  <a:pt x="10800" y="2513"/>
                </a:cubicBezTo>
                <a:cubicBezTo>
                  <a:pt x="15376" y="2513"/>
                  <a:pt x="19087" y="6223"/>
                  <a:pt x="19087" y="10800"/>
                </a:cubicBezTo>
                <a:cubicBezTo>
                  <a:pt x="19087" y="10891"/>
                  <a:pt x="19085" y="10982"/>
                  <a:pt x="19082" y="11072"/>
                </a:cubicBezTo>
                <a:lnTo>
                  <a:pt x="21594" y="11155"/>
                </a:lnTo>
                <a:cubicBezTo>
                  <a:pt x="21598" y="11037"/>
                  <a:pt x="21600" y="1091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918"/>
                  <a:pt x="1" y="11037"/>
                  <a:pt x="5" y="11155"/>
                </a:cubicBezTo>
                <a:lnTo>
                  <a:pt x="2517" y="11072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08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09:43:07Z</dcterms:created>
  <dc:creator>Galuppini Monica</dc:creator>
  <dc:description/>
  <dc:language>en-US</dc:language>
  <cp:lastModifiedBy>Fsimonetti</cp:lastModifiedBy>
  <cp:lastPrinted>2014-10-21T07:34:53Z</cp:lastPrinted>
  <dcterms:modified xsi:type="dcterms:W3CDTF">2018-08-30T06:42:16Z</dcterms:modified>
  <cp:revision>1680</cp:revision>
  <dc:subject/>
  <dc:title>Presentazione standard di PowerPoint</dc:title>
</cp:coreProperties>
</file>