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dt" idx="25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ftr" idx="26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 type="sldNum" idx="27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39B1AE-0160-40F4-9F85-3E9185AD957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2"/>
          <p:cNvSpPr/>
          <p:nvPr/>
        </p:nvSpPr>
        <p:spPr>
          <a:xfrm>
            <a:off x="385128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2B576-A935-4478-89B0-637B321CF0C9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42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6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33B0CC-C274-45BB-8CDC-EEA6A2AA7F74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"/>
          <p:cNvSpPr/>
          <p:nvPr/>
        </p:nvSpPr>
        <p:spPr>
          <a:xfrm>
            <a:off x="385128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BEAEC3EF-4A30-4E2D-8F03-B6739E0D2BB7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42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16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4687CE-DA6B-4365-AFCA-EB76B31FC165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"/>
          <p:cNvSpPr/>
          <p:nvPr/>
        </p:nvSpPr>
        <p:spPr>
          <a:xfrm>
            <a:off x="385128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C9AF2515-64A5-4763-BABC-31B2A228D74C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42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16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FECFE8-CD53-4191-8578-4ECFE6A5327D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"/>
          <p:cNvSpPr/>
          <p:nvPr/>
        </p:nvSpPr>
        <p:spPr>
          <a:xfrm>
            <a:off x="385128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C956C2BC-C528-4F0E-AF07-91945AE2271E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42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85128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6EFB3-6634-4F7B-9884-7760DCE2891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852720" y="9429840"/>
            <a:ext cx="29466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F8E2E-DF00-4B2C-A7D7-BB4DBEE1625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43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2"/>
          <p:cNvSpPr/>
          <p:nvPr/>
        </p:nvSpPr>
        <p:spPr>
          <a:xfrm>
            <a:off x="385128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C78D5-1BED-4470-B3CA-ADDA4B701B6F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4320" cy="371628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385128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92D7F-839D-4D50-A7FD-0D4B3E3DFBA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385128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B2C39-C37B-439A-B378-D17899B8180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2772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16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DB5ACB-B5F9-4AC2-8F23-C0E74D882C9C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"/>
          <p:cNvSpPr/>
          <p:nvPr/>
        </p:nvSpPr>
        <p:spPr>
          <a:xfrm>
            <a:off x="385128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1FC01ECC-047A-4884-B8A5-2A91DD123769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42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0AB1-EC7E-4A3B-A0D2-4AEFE6C8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06C0-80D2-4F91-AB6F-8A351493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67F1-E473-4B65-ACB5-829D4E138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8745-F7EB-44EB-8905-F614611DA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1C80-E530-4F4A-8347-B840AF21F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6C8A-1B05-4E5F-82C4-A48D6604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C215-61DA-449F-B538-F3B43698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CF6E-68FB-4076-B6B7-99371042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D45A-3F5F-4085-AC61-9A96F9CD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63A7-80F4-4787-B724-EFB59899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B4B3-52F8-4EDF-9FF7-63B96927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0244-A452-4A3B-BF23-D7E1930F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718E-C215-4494-89D9-1CDC90EE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6A30-62B9-482C-8A5D-DF0294C8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8AA1-00BA-40C2-8E65-D3F5A1AC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5627-88A9-429E-9D8E-92D7C9BF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BB4F-1006-4B4F-8633-9D7D1FFF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A1755-E9C5-432A-B03B-EDE79497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E57C4-9460-4F38-AD4D-97EF2BAD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3D84C-C920-43D6-9A08-E497C259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51557-5709-47F5-B482-E30B1844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ACA96-F476-44D8-9E7E-EB86B040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3A6B-6D5E-4ACE-9E2F-467F0B9B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44E06-8389-47D3-AE18-04BBA749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F4C65-795C-49F0-A28D-3814017C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304D2-6DFE-467E-8A4D-F81481CF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A9054-D3E3-4974-BB94-F8D48595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7B431-B3E0-4B64-96EA-DA9E78E9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46674-A199-43D4-9C8C-AE9841BC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9D920-1C9A-48FE-82B7-13D2ABE53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C1F4F-14A8-47B3-8648-ED11B85A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76A67-A2BE-46A0-8BCA-67E84928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52DCC-B9DC-48FB-B701-BA386A10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E9B6-B7AE-49DF-B239-3EF69C59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9450A-8649-4E7D-8E29-EBDDCB67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F4DBD-1207-4466-88C9-D899741E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1D829-2623-430F-928B-EC5565A0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ABD38-B39B-487B-A1B0-0C20BDA2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9F66B-F05D-4216-9CEB-05663740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7437B-DECB-457A-B2FE-7434AA65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F594C-6A9D-4624-8095-00A0CDF9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D8F39-8F3E-45CF-A096-19E9C6C4D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BCEC2-90B0-4FD8-9CEB-090FE40E8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82303-6F28-4493-B8CC-19642B6A9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E3AA-7D64-47B4-88E5-2967CC45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01EF2-5415-4F76-9EFB-D8E21AA1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392F0-2152-4851-9A43-3A5A396E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9BB45-8E09-49FB-8B37-E520C166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0CDC0-5903-4443-95B8-996D5AC2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C35CA-4110-4E27-8463-C62945A2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3C0A0-6535-4966-A915-9E8EDBC2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8619F-0D61-4F39-B822-76592F3B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9494C-DE39-4ED8-9BBF-D113E938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EF95E-DE91-476E-ABD8-54AA10F5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10234-9B82-49F7-98BD-27EACECAE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CFDA-BFB7-4BE3-8C1C-57B1051E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9C249-8DB6-433D-8A75-D309A455A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180FD-0647-4EF2-813C-7546A13B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9688D-F18C-45DC-8AE9-EEFA4609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25F82-A94E-42D2-9FDD-FE96FB23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A1119-6043-42CB-A93E-D18A096F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1BFFD-6492-4135-9A20-A39C1F3C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EA65F-1C0C-4999-9070-A233B438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9D86B-8CB5-402F-ADBC-40C011FD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5788E-959A-474B-B1E0-E4081016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CD8FA-EB45-4633-B99F-39F1E733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0E06-5DD5-4924-ACF1-3C92C2B5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2BF2A-F059-417C-90C0-8B6A5D8D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07939-DA9A-4649-946C-E2CEC8B8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2FFD4-807D-4F63-AB53-408DDF7E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B8F2F-EED9-4529-AE8D-08D78605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BC846-E478-41E5-B54E-2B15B168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A4EB7-C762-4F19-B4B7-2F730BB6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57F1A-DEF0-49EE-B740-9039539E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D6111-B322-4500-A835-263E1F78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1D84B-3656-41C3-B972-4F0C2DC9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5EED7-FA4A-4482-8555-4B21A1AF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3CE2-159C-42C8-9B21-14D5EDE5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4310A-CA8F-466D-B16D-0E4194C0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E562E-1674-461E-854D-6102CBE8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B0A3A-B9D3-41CF-9A24-078AD4CC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05F50-A275-48D8-AFA5-06CD674A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6725F-E8B0-4088-AF61-F6FB45F6D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9F050-8F4F-43C5-A81C-FD5CEE7F1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EB58D-BBBE-463C-B2BE-9898B94C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E69A3-65EB-47C5-AFB2-E525C047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C1FD9-59EC-44BF-ACF2-CEE45675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4B0BE-401C-4742-B775-8F6A783D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806C-E3D6-42AB-9EFD-4573A40E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246AB-A7E8-4B82-99DE-C44D6BBB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096CE-A2E8-410B-B467-32E03F07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6C226-F9A5-4558-8CCB-40595E8B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BFB1D-1981-42AE-A546-CABD95CC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3D88C-2F77-4C49-9FD9-FAA8A3EC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DD619-9DF6-41F2-BE65-31A51EE48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7CCDB-AA05-42D9-93FC-22F1410AB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7B7E-EB2A-45E7-BC25-5A15B0C9FF70}" type="datetime">
              <a:rPr b="0" lang="it-IT" sz="1000" spc="-1" strike="noStrike">
                <a:solidFill>
                  <a:srgbClr val="000000"/>
                </a:solidFill>
                <a:latin typeface="Arial"/>
              </a:rPr>
              <a:t>31/07/26</a:t>
            </a:fld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24 luglio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une di Bres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B603-5BA1-485E-9065-2A0DB34BEA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igura a mano libera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igura a mano libera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Triangolo rettangolo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4" name="Triangolo rettangolo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Connettore 1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7" name="Gallone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Gallone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B6D8-7A0C-43EE-B97D-313D8217E095}" type="datetime">
              <a:rPr b="0" lang="it-IT" sz="1000" spc="-1" strike="noStrike">
                <a:solidFill>
                  <a:srgbClr val="000000"/>
                </a:solidFill>
                <a:latin typeface="Arial"/>
              </a:rPr>
              <a:t>31/07/26</a:t>
            </a:fld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24 luglio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une di Bres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FFCD-AE43-422F-8D8B-FC70146B0B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igura a mano libera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igura a mano libera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Triangolo rettangolo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3" name="Triangolo rettangolo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Connettore 1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E5B3-7C92-496D-BAA1-9B6BA78DE946}" type="datetime">
              <a:rPr b="0" lang="it-IT" sz="1000" spc="-1" strike="noStrike">
                <a:solidFill>
                  <a:srgbClr val="000000"/>
                </a:solidFill>
                <a:latin typeface="Arial"/>
              </a:rPr>
              <a:t>31/07/26</a:t>
            </a:fld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24 luglio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une di Bres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0478-8AF4-4D4D-A9AA-14FD1FD09D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7A31-DF05-4E4D-9C91-8C9AD84F7095}" type="datetime">
              <a:rPr b="0" lang="it-IT" sz="1000" spc="-1" strike="noStrike">
                <a:solidFill>
                  <a:srgbClr val="000000"/>
                </a:solidFill>
                <a:latin typeface="Arial"/>
              </a:rPr>
              <a:t>31/07/26</a:t>
            </a:fld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24 luglio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une di Bres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4966-8CD8-4DEA-8D59-68107F974C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igura a mano libera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igura a mano libera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Triangolo rettangolo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1" name="Triangolo rettangolo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Connettore 1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1F8F-3F7E-421B-9C73-1402CD805FF2}" type="datetime">
              <a:rPr b="0" lang="it-IT" sz="1000" spc="-1" strike="noStrike">
                <a:solidFill>
                  <a:srgbClr val="000000"/>
                </a:solidFill>
                <a:latin typeface="Arial"/>
              </a:rPr>
              <a:t>31/07/26</a:t>
            </a:fld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24 luglio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une di Bres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87DB-F5DA-4573-88A5-C1E05A68D2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0289-326F-4E80-9ABD-94DDFD6FF37E}" type="datetime">
              <a:rPr b="0" lang="it-IT" sz="1000" spc="-1" strike="noStrike">
                <a:solidFill>
                  <a:srgbClr val="000000"/>
                </a:solidFill>
                <a:latin typeface="Arial"/>
              </a:rPr>
              <a:t>31/07/26</a:t>
            </a:fld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24 luglio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une di Bres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279A-92A5-4F84-A4C7-20FC18CFE4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igura a mano libera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igura a mano libera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Triangolo rettangolo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69" name="Triangolo rettangolo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1" name="Connettore 1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72" name="Gallone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Gallone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DF11-6539-4E89-B668-7BA32A51B3EC}" type="datetime">
              <a:rPr b="0" lang="it-IT" sz="1000" spc="-1" strike="noStrike">
                <a:solidFill>
                  <a:srgbClr val="000000"/>
                </a:solidFill>
                <a:latin typeface="Arial"/>
              </a:rPr>
              <a:t>31/07/26</a:t>
            </a:fld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24 luglio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une di Bres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E4F1-6D2D-4173-965F-77C54BEE0E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036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26E2-FBA8-403A-97E4-D260FD9C7191}" type="datetime">
              <a:rPr b="0" lang="it-IT" sz="10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353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une di Bres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5064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38D4-71A3-4FF5-8A50-8D15E601F9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324000" y="1235160"/>
            <a:ext cx="8351640" cy="2770200"/>
          </a:xfrm>
          <a:prstGeom prst="rect">
            <a:avLst/>
          </a:prstGeom>
          <a:solidFill>
            <a:srgbClr val="b5b5b5"/>
          </a:solidFill>
          <a:ln cap="sq"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826920" y="1413000"/>
            <a:ext cx="7632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  <a:ea typeface="Arial"/>
              </a:rPr>
              <a:t>CONTRATTO DI SERVIZIO ILLUMINAZIONE PUB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6699"/>
                </a:solidFill>
                <a:latin typeface="Arial"/>
                <a:ea typeface="Arial"/>
              </a:rPr>
              <a:t>RELAZIONE II SEMESTRE 20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(ex art. 12, comma 4,  Regolamento di disciplina dei controlli intern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8459640" y="6408720"/>
            <a:ext cx="5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E0231-FEFA-4B0C-89EC-199EE284010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2" descr="logo"/>
          <p:cNvPicPr/>
          <p:nvPr/>
        </p:nvPicPr>
        <p:blipFill>
          <a:blip r:embed="rId1"/>
          <a:stretch/>
        </p:blipFill>
        <p:spPr>
          <a:xfrm>
            <a:off x="179280" y="0"/>
            <a:ext cx="704880" cy="942840"/>
          </a:xfrm>
          <a:prstGeom prst="rect">
            <a:avLst/>
          </a:prstGeom>
          <a:ln w="0">
            <a:noFill/>
          </a:ln>
        </p:spPr>
      </p:pic>
      <p:sp>
        <p:nvSpPr>
          <p:cNvPr id="367" name="Rettangolo 2"/>
          <p:cNvSpPr/>
          <p:nvPr/>
        </p:nvSpPr>
        <p:spPr>
          <a:xfrm>
            <a:off x="893160" y="179280"/>
            <a:ext cx="132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COMU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di BRES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80452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41120" y="177840"/>
            <a:ext cx="31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</a:rPr>
              <a:t>SLA (livello del serviz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6320" y="792000"/>
            <a:ext cx="91440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6699"/>
                </a:solidFill>
                <a:latin typeface="Arial"/>
              </a:rPr>
              <a:t>I livelli di servizio individuali sono  stati divisi in tre grupp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6699"/>
                </a:solidFill>
                <a:latin typeface="Arial"/>
              </a:rPr>
              <a:t>- Attività ordina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6699"/>
                </a:solidFill>
                <a:latin typeface="Arial"/>
              </a:rPr>
              <a:t>- Interventi di manutenzione ordinaria e straordinaria, programmati e a chiam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6699"/>
                </a:solidFill>
                <a:latin typeface="Arial"/>
              </a:rPr>
              <a:t>- Pianificazione degli interventi evolutiv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34920" y="2392200"/>
          <a:ext cx="9034560" cy="3525840"/>
        </p:xfrm>
        <a:graphic>
          <a:graphicData uri="http://schemas.openxmlformats.org/drawingml/2006/table">
            <a:tbl>
              <a:tblPr/>
              <a:tblGrid>
                <a:gridCol w="1508040"/>
                <a:gridCol w="4324320"/>
                <a:gridCol w="1584360"/>
                <a:gridCol w="1617840"/>
              </a:tblGrid>
              <a:tr h="719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SLA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Standard di qualit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Risulta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Cruscot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70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Attività ordin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Garantire il livello di illuminazione contrattuale annu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dell'impianto  pari a 4.000/4.150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4.126 o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(201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9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Interventi d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Manuten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ordinaria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straordinaria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programmati e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chiama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Effettuare gli interventi entro i termini contrattuali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- Ripristino punti luce entro 5 g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buClr>
                          <a:srgbClr val="006699"/>
                        </a:buClr>
                        <a:buSzPct val="68000"/>
                        <a:buFont typeface="Arial"/>
                        <a:buChar char="-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- Lavaggio parte ottica apparecchi d'illuminazione: 5 an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- Sostegni, gruppi di comando, reg. di flusso :interven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entro 24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8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it-IT" sz="10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N° interventi. eseg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3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-------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3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6480000" y="-3240"/>
            <a:ext cx="2590920" cy="692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</a:rPr>
              <a:t>Illuminazione pub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524720" y="3790800"/>
            <a:ext cx="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8172360" y="3933360"/>
            <a:ext cx="4320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40720" y="3357720"/>
            <a:ext cx="1033560" cy="1125360"/>
          </a:xfrm>
          <a:custGeom>
            <a:avLst/>
            <a:gdLst>
              <a:gd name="textAreaLeft" fmla="*/ 0 w 1033560"/>
              <a:gd name="textAreaRight" fmla="*/ 1033560 w 1033560"/>
              <a:gd name="textAreaTop" fmla="*/ 0 h 1125360"/>
              <a:gd name="textAreaBottom" fmla="*/ 420480 h 1125360"/>
            </a:gdLst>
            <a:ahLst/>
            <a:rect l="textAreaLeft" t="textAreaTop" r="textAreaRight" b="textAreaBottom"/>
            <a:pathLst>
              <a:path w="21600" h="21600">
                <a:moveTo>
                  <a:pt x="2517" y="11072"/>
                </a:moveTo>
                <a:cubicBezTo>
                  <a:pt x="2514" y="10982"/>
                  <a:pt x="2513" y="10891"/>
                  <a:pt x="2513" y="10800"/>
                </a:cubicBezTo>
                <a:cubicBezTo>
                  <a:pt x="2513" y="6223"/>
                  <a:pt x="6223" y="2513"/>
                  <a:pt x="10800" y="2513"/>
                </a:cubicBezTo>
                <a:cubicBezTo>
                  <a:pt x="15376" y="2513"/>
                  <a:pt x="19087" y="6223"/>
                  <a:pt x="19087" y="10800"/>
                </a:cubicBezTo>
                <a:cubicBezTo>
                  <a:pt x="19087" y="10891"/>
                  <a:pt x="19085" y="10982"/>
                  <a:pt x="19082" y="11072"/>
                </a:cubicBezTo>
                <a:lnTo>
                  <a:pt x="21594" y="11155"/>
                </a:lnTo>
                <a:cubicBezTo>
                  <a:pt x="21598" y="11037"/>
                  <a:pt x="21600" y="10918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918"/>
                  <a:pt x="1" y="11037"/>
                  <a:pt x="5" y="11155"/>
                </a:cubicBezTo>
                <a:lnTo>
                  <a:pt x="2517" y="11072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108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388360" y="400680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5/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740720" y="4797360"/>
            <a:ext cx="1033560" cy="1125720"/>
          </a:xfrm>
          <a:custGeom>
            <a:avLst/>
            <a:gdLst>
              <a:gd name="textAreaLeft" fmla="*/ 0 w 1033560"/>
              <a:gd name="textAreaRight" fmla="*/ 1033560 w 1033560"/>
              <a:gd name="textAreaTop" fmla="*/ 0 h 1125720"/>
              <a:gd name="textAreaBottom" fmla="*/ 420840 h 1125720"/>
            </a:gdLst>
            <a:ahLst/>
            <a:rect l="textAreaLeft" t="textAreaTop" r="textAreaRight" b="textAreaBottom"/>
            <a:pathLst>
              <a:path w="21600" h="21600">
                <a:moveTo>
                  <a:pt x="2517" y="11072"/>
                </a:moveTo>
                <a:cubicBezTo>
                  <a:pt x="2514" y="10982"/>
                  <a:pt x="2513" y="10891"/>
                  <a:pt x="2513" y="10800"/>
                </a:cubicBezTo>
                <a:cubicBezTo>
                  <a:pt x="2513" y="6223"/>
                  <a:pt x="6223" y="2513"/>
                  <a:pt x="10800" y="2513"/>
                </a:cubicBezTo>
                <a:cubicBezTo>
                  <a:pt x="15376" y="2513"/>
                  <a:pt x="19087" y="6223"/>
                  <a:pt x="19087" y="10800"/>
                </a:cubicBezTo>
                <a:cubicBezTo>
                  <a:pt x="19087" y="10891"/>
                  <a:pt x="19085" y="10982"/>
                  <a:pt x="19082" y="11072"/>
                </a:cubicBezTo>
                <a:lnTo>
                  <a:pt x="21594" y="11155"/>
                </a:lnTo>
                <a:cubicBezTo>
                  <a:pt x="21598" y="11037"/>
                  <a:pt x="21600" y="10918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918"/>
                  <a:pt x="1" y="11037"/>
                  <a:pt x="5" y="11155"/>
                </a:cubicBezTo>
                <a:lnTo>
                  <a:pt x="2517" y="11072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108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388360" y="544500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5/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8101080" y="5373720"/>
            <a:ext cx="431640" cy="1440"/>
          </a:xfrm>
          <a:prstGeom prst="line">
            <a:avLst/>
          </a:prstGeom>
          <a:ln cap="sq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0"/>
            <a:ext cx="80452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08000" y="249120"/>
            <a:ext cx="55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</a:rPr>
              <a:t>SLA (livello del servizio)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480000" y="0"/>
            <a:ext cx="2664000" cy="692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</a:rPr>
              <a:t>Illuminazione pub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14480" y="984240"/>
          <a:ext cx="8910360" cy="4146480"/>
        </p:xfrm>
        <a:graphic>
          <a:graphicData uri="http://schemas.openxmlformats.org/drawingml/2006/table">
            <a:tbl>
              <a:tblPr/>
              <a:tblGrid>
                <a:gridCol w="1865160"/>
                <a:gridCol w="3960720"/>
                <a:gridCol w="1379520"/>
                <a:gridCol w="1704960"/>
              </a:tblGrid>
              <a:tr h="474840">
                <a:tc>
                  <a:txBody>
                    <a:bodyPr lIns="0" rIns="0" tIns="248400" bIns="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Pianificazione degli interventi evolutivi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48400" bIns="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Standard di qualit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48400" bIns="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Risulta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48400" bIns="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Cruscot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360">
                <a:tc>
                  <a:txBody>
                    <a:bodyPr lIns="0" rIns="0" tIns="248400" bIns="0" anchor="t">
                      <a:noAutofit/>
                    </a:bodyPr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Sostituzione punti luce 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L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87920" bIns="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Rispetto SAL del cronoprogramm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48400" bIns="0" anchor="t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42.508 </a:t>
                      </a:r>
                      <a:r>
                        <a:rPr b="1" lang="it-IT" sz="10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(99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9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(Restano le installazioni monumentali del Castello e Piazza Vittoria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48400" bIns="0" anchor="t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4920">
                <a:tc>
                  <a:txBody>
                    <a:bodyPr lIns="0" rIns="0" tIns="248400" bIns="0" anchor="t">
                      <a:noAutofit/>
                    </a:bodyPr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Verniciatura sostegni 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accia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87920" bIns="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Rispetto SAL del cronoprogram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48400" bIns="0" anchor="t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22.691 </a:t>
                      </a:r>
                      <a:r>
                        <a:rPr b="1" lang="it-IT" sz="10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(100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48400" bIns="0" anchor="t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360">
                <a:tc>
                  <a:txBody>
                    <a:bodyPr lIns="0" rIns="0" tIns="248400" bIns="0" anchor="t">
                      <a:noAutofit/>
                    </a:bodyPr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Nuovi punti lu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48400" bIns="0" anchor="t">
                      <a:noAutofit/>
                    </a:bodyPr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Esecuzione del nuovo impianto d’illuminazione ne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rispetto del programma di affidamento del Settore d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Competenza; li conosciamo a collaudo e rientrano ne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computo del canone annu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48400" bIns="0" anchor="t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48400" bIns="0" anchor="t">
                      <a:noAutofit/>
                    </a:bodyPr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3" name=""/>
          <p:cNvSpPr/>
          <p:nvPr/>
        </p:nvSpPr>
        <p:spPr>
          <a:xfrm>
            <a:off x="7596360" y="2924280"/>
            <a:ext cx="1033200" cy="1125360"/>
          </a:xfrm>
          <a:custGeom>
            <a:avLst/>
            <a:gdLst>
              <a:gd name="textAreaLeft" fmla="*/ 0 w 1033200"/>
              <a:gd name="textAreaRight" fmla="*/ 1033200 w 1033200"/>
              <a:gd name="textAreaTop" fmla="*/ 0 h 1125360"/>
              <a:gd name="textAreaBottom" fmla="*/ 420480 h 1125360"/>
            </a:gdLst>
            <a:ahLst/>
            <a:rect l="textAreaLeft" t="textAreaTop" r="textAreaRight" b="textAreaBottom"/>
            <a:pathLst>
              <a:path w="21600" h="21600">
                <a:moveTo>
                  <a:pt x="2517" y="11072"/>
                </a:moveTo>
                <a:cubicBezTo>
                  <a:pt x="2514" y="10982"/>
                  <a:pt x="2513" y="10891"/>
                  <a:pt x="2513" y="10800"/>
                </a:cubicBezTo>
                <a:cubicBezTo>
                  <a:pt x="2513" y="6223"/>
                  <a:pt x="6223" y="2513"/>
                  <a:pt x="10800" y="2513"/>
                </a:cubicBezTo>
                <a:cubicBezTo>
                  <a:pt x="15376" y="2513"/>
                  <a:pt x="19087" y="6223"/>
                  <a:pt x="19087" y="10800"/>
                </a:cubicBezTo>
                <a:cubicBezTo>
                  <a:pt x="19087" y="10891"/>
                  <a:pt x="19085" y="10982"/>
                  <a:pt x="19082" y="11072"/>
                </a:cubicBezTo>
                <a:lnTo>
                  <a:pt x="21594" y="11155"/>
                </a:lnTo>
                <a:cubicBezTo>
                  <a:pt x="21598" y="11037"/>
                  <a:pt x="21600" y="10918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918"/>
                  <a:pt x="1" y="11037"/>
                  <a:pt x="5" y="11155"/>
                </a:cubicBezTo>
                <a:lnTo>
                  <a:pt x="2517" y="11072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108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667640" y="4149720"/>
            <a:ext cx="1033560" cy="1125720"/>
          </a:xfrm>
          <a:custGeom>
            <a:avLst/>
            <a:gdLst>
              <a:gd name="textAreaLeft" fmla="*/ 0 w 1033560"/>
              <a:gd name="textAreaRight" fmla="*/ 1033560 w 1033560"/>
              <a:gd name="textAreaTop" fmla="*/ 0 h 1125720"/>
              <a:gd name="textAreaBottom" fmla="*/ 420840 h 1125720"/>
            </a:gdLst>
            <a:ahLst/>
            <a:rect l="textAreaLeft" t="textAreaTop" r="textAreaRight" b="textAreaBottom"/>
            <a:pathLst>
              <a:path w="21600" h="21600">
                <a:moveTo>
                  <a:pt x="2517" y="11072"/>
                </a:moveTo>
                <a:cubicBezTo>
                  <a:pt x="2514" y="10982"/>
                  <a:pt x="2513" y="10891"/>
                  <a:pt x="2513" y="10800"/>
                </a:cubicBezTo>
                <a:cubicBezTo>
                  <a:pt x="2513" y="6223"/>
                  <a:pt x="6223" y="2513"/>
                  <a:pt x="10800" y="2513"/>
                </a:cubicBezTo>
                <a:cubicBezTo>
                  <a:pt x="15376" y="2513"/>
                  <a:pt x="19087" y="6223"/>
                  <a:pt x="19087" y="10800"/>
                </a:cubicBezTo>
                <a:cubicBezTo>
                  <a:pt x="19087" y="10891"/>
                  <a:pt x="19085" y="10982"/>
                  <a:pt x="19082" y="11072"/>
                </a:cubicBezTo>
                <a:lnTo>
                  <a:pt x="21594" y="11155"/>
                </a:lnTo>
                <a:cubicBezTo>
                  <a:pt x="21598" y="11037"/>
                  <a:pt x="21600" y="10918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918"/>
                  <a:pt x="1" y="11037"/>
                  <a:pt x="5" y="11155"/>
                </a:cubicBezTo>
                <a:lnTo>
                  <a:pt x="2517" y="11072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108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7956720" y="4723920"/>
            <a:ext cx="502920" cy="1800"/>
          </a:xfrm>
          <a:prstGeom prst="line">
            <a:avLst/>
          </a:prstGeom>
          <a:ln cap="sq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8316720" y="472428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5/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596360" y="1700280"/>
            <a:ext cx="1033200" cy="1125360"/>
          </a:xfrm>
          <a:custGeom>
            <a:avLst/>
            <a:gdLst>
              <a:gd name="textAreaLeft" fmla="*/ 0 w 1033200"/>
              <a:gd name="textAreaRight" fmla="*/ 1033200 w 1033200"/>
              <a:gd name="textAreaTop" fmla="*/ 0 h 1125360"/>
              <a:gd name="textAreaBottom" fmla="*/ 420480 h 1125360"/>
            </a:gdLst>
            <a:ahLst/>
            <a:rect l="textAreaLeft" t="textAreaTop" r="textAreaRight" b="textAreaBottom"/>
            <a:pathLst>
              <a:path w="21600" h="21600">
                <a:moveTo>
                  <a:pt x="2517" y="11072"/>
                </a:moveTo>
                <a:cubicBezTo>
                  <a:pt x="2514" y="10982"/>
                  <a:pt x="2513" y="10891"/>
                  <a:pt x="2513" y="10800"/>
                </a:cubicBezTo>
                <a:cubicBezTo>
                  <a:pt x="2513" y="6223"/>
                  <a:pt x="6223" y="2513"/>
                  <a:pt x="10800" y="2513"/>
                </a:cubicBezTo>
                <a:cubicBezTo>
                  <a:pt x="15376" y="2513"/>
                  <a:pt x="19087" y="6223"/>
                  <a:pt x="19087" y="10800"/>
                </a:cubicBezTo>
                <a:cubicBezTo>
                  <a:pt x="19087" y="10891"/>
                  <a:pt x="19085" y="10982"/>
                  <a:pt x="19082" y="11072"/>
                </a:cubicBezTo>
                <a:lnTo>
                  <a:pt x="21594" y="11155"/>
                </a:lnTo>
                <a:cubicBezTo>
                  <a:pt x="21598" y="11037"/>
                  <a:pt x="21600" y="10918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918"/>
                  <a:pt x="1" y="11037"/>
                  <a:pt x="5" y="11155"/>
                </a:cubicBezTo>
                <a:lnTo>
                  <a:pt x="2517" y="11072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108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7885080" y="3499920"/>
            <a:ext cx="5032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7885080" y="2276640"/>
            <a:ext cx="5032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172360" y="22766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5/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172360" y="350028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5/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CasellaDiTesto 3"/>
          <p:cNvSpPr/>
          <p:nvPr/>
        </p:nvSpPr>
        <p:spPr>
          <a:xfrm>
            <a:off x="826920" y="1146240"/>
            <a:ext cx="7182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Premes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Ogget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Dati sul serviz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- Alleg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e 5"/>
          <p:cNvSpPr/>
          <p:nvPr/>
        </p:nvSpPr>
        <p:spPr>
          <a:xfrm>
            <a:off x="6588000" y="216000"/>
            <a:ext cx="2556000" cy="6919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</a:rPr>
              <a:t>Illuminazione pub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egnaposto numero diapositiva 2"/>
          <p:cNvSpPr/>
          <p:nvPr/>
        </p:nvSpPr>
        <p:spPr>
          <a:xfrm>
            <a:off x="8459640" y="6408720"/>
            <a:ext cx="5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B0F8-0DF1-4E3A-ACBC-EB1BD39A41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ttangolo 1"/>
          <p:cNvSpPr/>
          <p:nvPr/>
        </p:nvSpPr>
        <p:spPr>
          <a:xfrm>
            <a:off x="657360" y="3141720"/>
            <a:ext cx="6902280" cy="792000"/>
          </a:xfrm>
          <a:prstGeom prst="rect">
            <a:avLst/>
          </a:prstGeom>
          <a:solidFill>
            <a:srgbClr val="b5b5b5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CasellaDiTesto 3"/>
          <p:cNvSpPr/>
          <p:nvPr/>
        </p:nvSpPr>
        <p:spPr>
          <a:xfrm>
            <a:off x="826920" y="1146240"/>
            <a:ext cx="7182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Premes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Ogget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Dati sul serviz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- Alleg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e 5"/>
          <p:cNvSpPr/>
          <p:nvPr/>
        </p:nvSpPr>
        <p:spPr>
          <a:xfrm>
            <a:off x="6588000" y="216000"/>
            <a:ext cx="2556000" cy="6919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</a:rPr>
              <a:t>Illuminazione pub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egnaposto numero diapositiva 2"/>
          <p:cNvSpPr/>
          <p:nvPr/>
        </p:nvSpPr>
        <p:spPr>
          <a:xfrm>
            <a:off x="8459640" y="6408720"/>
            <a:ext cx="5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4346-8DC2-4D75-A10B-AFEF4EB8C5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309600" y="1268280"/>
            <a:ext cx="6048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buClr>
                <a:srgbClr val="006699"/>
              </a:buClr>
              <a:buFont typeface="Arial"/>
              <a:buChar char="­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Processo del monitoraggio (allegato 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006699"/>
              </a:buClr>
              <a:buFont typeface="Arial"/>
              <a:buChar char="­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Metodologia dell’analisi (allegato 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006699"/>
              </a:buClr>
              <a:buFont typeface="Arial"/>
              <a:buChar char="­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Corpi illuminanti (allegato 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006699"/>
              </a:buClr>
              <a:buFont typeface="Arial"/>
              <a:buChar char="­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006699"/>
              </a:buClr>
              <a:buFont typeface="Arial"/>
              <a:buChar char="­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3"/>
          <p:cNvSpPr/>
          <p:nvPr/>
        </p:nvSpPr>
        <p:spPr>
          <a:xfrm>
            <a:off x="611280" y="26028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  <a:ea typeface="Arial"/>
              </a:rPr>
              <a:t>Alleg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e 4"/>
          <p:cNvSpPr/>
          <p:nvPr/>
        </p:nvSpPr>
        <p:spPr>
          <a:xfrm>
            <a:off x="6516720" y="216000"/>
            <a:ext cx="2627280" cy="6919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</a:rPr>
              <a:t>Illuminazione pub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egnaposto numero diapositiva 1"/>
          <p:cNvSpPr/>
          <p:nvPr/>
        </p:nvSpPr>
        <p:spPr>
          <a:xfrm>
            <a:off x="8388360" y="6408720"/>
            <a:ext cx="62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A47E-6BC6-4352-ADD2-563913B5F0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egnaposto numero diapositiva 1"/>
          <p:cNvSpPr/>
          <p:nvPr/>
        </p:nvSpPr>
        <p:spPr>
          <a:xfrm>
            <a:off x="8459640" y="6408720"/>
            <a:ext cx="5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1ED0-EC82-4957-96DE-C753CC21FA2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0" y="333360"/>
            <a:ext cx="804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  <a:ea typeface="Arial"/>
              </a:rPr>
              <a:t>Processo del monitoraggio del serviz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108000" y="1197000"/>
          <a:ext cx="8877240" cy="3452760"/>
        </p:xfrm>
        <a:graphic>
          <a:graphicData uri="http://schemas.openxmlformats.org/drawingml/2006/table">
            <a:tbl>
              <a:tblPr/>
              <a:tblGrid>
                <a:gridCol w="2087640"/>
                <a:gridCol w="431640"/>
                <a:gridCol w="360360"/>
                <a:gridCol w="590760"/>
                <a:gridCol w="706320"/>
                <a:gridCol w="527040"/>
                <a:gridCol w="569880"/>
                <a:gridCol w="630360"/>
                <a:gridCol w="647640"/>
                <a:gridCol w="649080"/>
                <a:gridCol w="576360"/>
                <a:gridCol w="620640"/>
                <a:gridCol w="479520"/>
              </a:tblGrid>
              <a:tr h="253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p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i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254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SE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7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Trasmissione reportistica al Settore Strade (da parte del gestore A2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Trasmissione dati economici relativi al serviz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(a partire da gennaio 201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1240"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Trasmissione reportistica al Settore Coordinamento partecipate (da parte del gestore A2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SE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Trasmissione dati recla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(A regime dal 201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 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66" name="Ovale 7"/>
          <p:cNvSpPr/>
          <p:nvPr/>
        </p:nvSpPr>
        <p:spPr>
          <a:xfrm>
            <a:off x="7308720" y="23760"/>
            <a:ext cx="1835280" cy="4525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</a:rPr>
              <a:t>Allegato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egnaposto numero diapositiva 1"/>
          <p:cNvSpPr/>
          <p:nvPr/>
        </p:nvSpPr>
        <p:spPr>
          <a:xfrm>
            <a:off x="8532720" y="6408720"/>
            <a:ext cx="480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C2B6-6B10-44FD-9721-3D56EA5F3DE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0" y="58680"/>
            <a:ext cx="80452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47000"/>
          </a:bodyPr>
          <a:p>
            <a:pPr marL="123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  <a:ea typeface="Arial"/>
              </a:rPr>
              <a:t>Processo del monitoraggio del servizio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139680" y="765000"/>
          <a:ext cx="8896320" cy="3997440"/>
        </p:xfrm>
        <a:graphic>
          <a:graphicData uri="http://schemas.openxmlformats.org/drawingml/2006/table">
            <a:tbl>
              <a:tblPr/>
              <a:tblGrid>
                <a:gridCol w="1800360"/>
                <a:gridCol w="471240"/>
                <a:gridCol w="576360"/>
                <a:gridCol w="720720"/>
                <a:gridCol w="863640"/>
                <a:gridCol w="293760"/>
                <a:gridCol w="282600"/>
                <a:gridCol w="431640"/>
                <a:gridCol w="432000"/>
                <a:gridCol w="720720"/>
                <a:gridCol w="1079280"/>
                <a:gridCol w="824040"/>
                <a:gridCol w="399960"/>
              </a:tblGrid>
              <a:tr h="347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 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 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 ap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i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 l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 se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 o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 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346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SE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Riunioni periodiche col gest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 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00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Condivisione con Settore Coordinamento partecip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 </a:t>
                      </a:r>
                      <a:br>
                        <a:rPr sz="1200"/>
                      </a:br>
                      <a:r>
                        <a:rPr b="1" lang="it-IT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(ANALISI SERVIZI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 </a:t>
                      </a:r>
                      <a:br>
                        <a:rPr sz="1200"/>
                      </a:br>
                      <a:r>
                        <a:rPr b="1" lang="it-IT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(ANALISI BILANCIO E OBIETTIVI ANNO SUCCESSIV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46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Presentazione relazione semestrale ex art 12 Regolamento controlli inter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 </a:t>
                      </a:r>
                      <a:r>
                        <a:rPr b="1" lang="it-IT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(BOZZ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</a:t>
                      </a:r>
                      <a:br>
                        <a:rPr sz="1200"/>
                      </a:br>
                      <a:r>
                        <a:rPr b="1" lang="it-IT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(VERSIONE DEFINITIV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it-IT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(BOZZ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(VERSIONE DEFINITIV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70" name="Ovale 7"/>
          <p:cNvSpPr/>
          <p:nvPr/>
        </p:nvSpPr>
        <p:spPr>
          <a:xfrm>
            <a:off x="7308720" y="23760"/>
            <a:ext cx="1835280" cy="4525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</a:rPr>
              <a:t>Allegato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egnaposto numero diapositiva 1"/>
          <p:cNvSpPr/>
          <p:nvPr/>
        </p:nvSpPr>
        <p:spPr>
          <a:xfrm>
            <a:off x="7812000" y="6408720"/>
            <a:ext cx="120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2A36-54E1-48D5-9EA5-81D363CA02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Oval 2"/>
          <p:cNvSpPr/>
          <p:nvPr/>
        </p:nvSpPr>
        <p:spPr>
          <a:xfrm>
            <a:off x="7308720" y="23760"/>
            <a:ext cx="1835280" cy="4525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Allegato b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0" y="58680"/>
            <a:ext cx="80452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47000"/>
          </a:bodyPr>
          <a:p>
            <a:pPr marL="123840">
              <a:lnSpc>
                <a:spcPct val="100000"/>
              </a:lnSpc>
              <a:tabLst>
                <a:tab algn="l" pos="0"/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  <a:ea typeface="Arial"/>
              </a:rPr>
              <a:t>Metodologia dell’analisi - S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egnaposto numero diapositiva 1"/>
          <p:cNvSpPr/>
          <p:nvPr/>
        </p:nvSpPr>
        <p:spPr>
          <a:xfrm>
            <a:off x="8388360" y="6408720"/>
            <a:ext cx="62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FA3B-A540-485B-8758-C25EC8C05456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108000" y="608040"/>
          <a:ext cx="8280360" cy="5653080"/>
        </p:xfrm>
        <a:graphic>
          <a:graphicData uri="http://schemas.openxmlformats.org/drawingml/2006/table">
            <a:tbl>
              <a:tblPr/>
              <a:tblGrid>
                <a:gridCol w="1150920"/>
                <a:gridCol w="1368360"/>
                <a:gridCol w="1008000"/>
                <a:gridCol w="1944720"/>
                <a:gridCol w="1152720"/>
                <a:gridCol w="1008000"/>
                <a:gridCol w="647640"/>
              </a:tblGrid>
              <a:tr h="30960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dicatori risultati di monitoraggio Pubblica Illumina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Catego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Oggetto del monitoragg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S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Modalità di verif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Metodologia di  valut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Soglia di conform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Pe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4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Gestione e manutenzione ordin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Ripristino punto lu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5 gg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Sopralluoghi a campione su lampade aggiusta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Analisi dei tabulati e a vis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100% nei 5 gg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10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8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6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Accensione impian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4.000/4150 ore a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Sopralluoghi a campione sui quadri in base aTabella astrono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A 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Intensità lu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Diagramma di intensità lumino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Sopralluoghi a campion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Misurazione con Luxme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Gestione e manutenzione ordin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Lavaggio parte ottica apparecchi illumin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5 an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Sopralluoghi a campione sula base di quelli puli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A 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10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Gestione e manutenzione ordin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Manutenzione gruppi di coman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24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Sopralluog</a:t>
                      </a:r>
                      <a:r>
                        <a:rPr b="0" lang="it-IT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hi</a:t>
                      </a: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a campione con verifica puntu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A 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10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ManutenzioneStraordin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Interventi non programmabili (dannegg. furti, atti di vandalism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24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Sopralluog</a:t>
                      </a:r>
                      <a:r>
                        <a:rPr b="0" lang="it-IT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hi</a:t>
                      </a: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a campione con verifica puntu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A vista e rapporto con tempi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100% nelle 24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8352000" y="620640"/>
          <a:ext cx="792000" cy="5616360"/>
        </p:xfrm>
        <a:graphic>
          <a:graphicData uri="http://schemas.openxmlformats.org/drawingml/2006/table">
            <a:tbl>
              <a:tblPr/>
              <a:tblGrid>
                <a:gridCol w="792000"/>
              </a:tblGrid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Clusterizzazione tipologia e rivalutazione utlilità con ingresso l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Oval 2"/>
          <p:cNvSpPr/>
          <p:nvPr/>
        </p:nvSpPr>
        <p:spPr>
          <a:xfrm>
            <a:off x="7308720" y="23760"/>
            <a:ext cx="1835280" cy="4525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Allegato b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0" y="58680"/>
            <a:ext cx="80452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47000"/>
          </a:bodyPr>
          <a:p>
            <a:pPr marL="123840">
              <a:lnSpc>
                <a:spcPct val="100000"/>
              </a:lnSpc>
              <a:tabLst>
                <a:tab algn="l" pos="0"/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  <a:ea typeface="Arial"/>
              </a:rPr>
              <a:t>Metodologia dell’analisi - S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egnaposto numero diapositiva 1"/>
          <p:cNvSpPr/>
          <p:nvPr/>
        </p:nvSpPr>
        <p:spPr>
          <a:xfrm>
            <a:off x="8459640" y="6408720"/>
            <a:ext cx="5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1F2A-5FC1-44EE-BA34-697F0920CA6A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179280" y="476280"/>
          <a:ext cx="7993080" cy="5667480"/>
        </p:xfrm>
        <a:graphic>
          <a:graphicData uri="http://schemas.openxmlformats.org/drawingml/2006/table">
            <a:tbl>
              <a:tblPr/>
              <a:tblGrid>
                <a:gridCol w="1224000"/>
                <a:gridCol w="1297080"/>
                <a:gridCol w="1440000"/>
                <a:gridCol w="1223640"/>
                <a:gridCol w="1224000"/>
                <a:gridCol w="1008360"/>
                <a:gridCol w="576000"/>
              </a:tblGrid>
              <a:tr h="3286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dicatori risultati di monitoraggio Pubblica Illumina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Catego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Oggetto del monitoragg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S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Modalità di verif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Metodologia di valut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Soglia di conform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Pe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ManutenzioneStraordin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Manutenzione linee, sostegni, gruppi di comando e regolat. flus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24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Sopralluoghi a campione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A 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100%  nelle 24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Evolu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Sostituzione punti luce in 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Cronoprogramma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trimestr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SAL e controlli a camp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Analisi SAL e controllo a 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10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Evolu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Verniciatura sosteg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Cronoprogramma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trimestr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SAL e controlli a camp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Analisi SAL e controllo a 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10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Evolu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Nuovi punti luce nuove ar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CRE e  Collau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Sopralluoghi interv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A 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10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1" name=""/>
          <p:cNvGraphicFramePr/>
          <p:nvPr/>
        </p:nvGraphicFramePr>
        <p:xfrm>
          <a:off x="8172360" y="476280"/>
          <a:ext cx="792000" cy="5689440"/>
        </p:xfrm>
        <a:graphic>
          <a:graphicData uri="http://schemas.openxmlformats.org/drawingml/2006/table">
            <a:tbl>
              <a:tblPr/>
              <a:tblGrid>
                <a:gridCol w="79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nizio lavori gennaio 201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8388360" y="6408720"/>
            <a:ext cx="62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3FD02-0D95-4F89-90C9-4DDE310CBE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308720" y="23760"/>
            <a:ext cx="1835280" cy="4525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</a:rPr>
              <a:t>Allegato 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58680"/>
            <a:ext cx="80452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2" marL="1406520" indent="-222120">
              <a:lnSpc>
                <a:spcPct val="100000"/>
              </a:lnSpc>
              <a:tabLst>
                <a:tab algn="l" pos="0"/>
                <a:tab algn="l" pos="1406520"/>
                <a:tab algn="l" pos="2320920"/>
                <a:tab algn="l" pos="3235320"/>
                <a:tab algn="l" pos="4149720"/>
                <a:tab algn="l" pos="5064120"/>
                <a:tab algn="l" pos="5978520"/>
                <a:tab algn="l" pos="6892920"/>
                <a:tab algn="l" pos="7807320"/>
                <a:tab algn="l" pos="8721720"/>
                <a:tab algn="l" pos="9636120"/>
                <a:tab algn="l" pos="10550520"/>
                <a:tab algn="l" pos="1146492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  <a:ea typeface="Arial"/>
              </a:rPr>
              <a:t>Corpi illuminanti </a:t>
            </a:r>
            <a:r>
              <a:rPr b="1" lang="it-IT" sz="1200" spc="-1" strike="noStrike">
                <a:solidFill>
                  <a:srgbClr val="006699"/>
                </a:solidFill>
                <a:latin typeface="Arial"/>
                <a:ea typeface="Arial"/>
              </a:rPr>
              <a:t>(31 dic. 2013 – 30 giu. 2018)</a:t>
            </a:r>
            <a:r>
              <a:rPr b="1" lang="it-IT" sz="2000" spc="-1" strike="noStrike">
                <a:solidFill>
                  <a:srgbClr val="006699"/>
                </a:solidFill>
                <a:latin typeface="Arial"/>
                <a:ea typeface="Arial"/>
              </a:rPr>
              <a:t>	</a:t>
            </a:r>
            <a:r>
              <a:rPr b="1" lang="it-IT" sz="2000" spc="-1" strike="noStrike">
                <a:solidFill>
                  <a:srgbClr val="006699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971640" y="1341360"/>
          <a:ext cx="6781680" cy="40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341360"/>
                    <a:ext cx="678168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ttangolo 1"/>
          <p:cNvSpPr/>
          <p:nvPr/>
        </p:nvSpPr>
        <p:spPr>
          <a:xfrm>
            <a:off x="625320" y="950760"/>
            <a:ext cx="6902640" cy="655920"/>
          </a:xfrm>
          <a:prstGeom prst="rect">
            <a:avLst/>
          </a:prstGeom>
          <a:solidFill>
            <a:srgbClr val="b5b5b5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CasellaDiTesto 3"/>
          <p:cNvSpPr/>
          <p:nvPr/>
        </p:nvSpPr>
        <p:spPr>
          <a:xfrm>
            <a:off x="826920" y="1125360"/>
            <a:ext cx="7182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Premes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Ogget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Dati sul serviz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- Alleg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e 5"/>
          <p:cNvSpPr/>
          <p:nvPr/>
        </p:nvSpPr>
        <p:spPr>
          <a:xfrm>
            <a:off x="6516720" y="216000"/>
            <a:ext cx="2627280" cy="6919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</a:rPr>
              <a:t>Illuminazione pub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egnaposto numero diapositiva 2"/>
          <p:cNvSpPr/>
          <p:nvPr/>
        </p:nvSpPr>
        <p:spPr>
          <a:xfrm>
            <a:off x="8244000" y="6408720"/>
            <a:ext cx="76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F6C3-3996-44E3-BCF9-B5E476DA17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179280" y="549360"/>
            <a:ext cx="8809200" cy="56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6699"/>
                </a:solidFill>
                <a:latin typeface="Arial"/>
                <a:ea typeface="Arial"/>
              </a:rPr>
              <a:t>Il contratto per il servizio di pubblica illuminazione è stato affidato alla società A2A Reti Elettriche S.p.A. e consiste nelle attività di : Gestione e Manutenzione Ordinaria, Manutenzione Straordinaria ed Attività Evolutiv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6699"/>
                </a:solidFill>
                <a:latin typeface="Arial"/>
                <a:ea typeface="Arial"/>
              </a:rPr>
              <a:t>Il servizio di illuminazione del territorio cittadino è a beneficio dell'intera collettività che abita e frequenta la città di Brescia. Non è pertanto stata adottata una specifica carta dei servizi, e si è deciso di non misurare il grado di soddisfazione del cliente.  E’ stato strutturato il sistema di raccolta reclami di guasti / malfunzionamenti,  con segnalazioni per i relativi interventi</a:t>
            </a:r>
            <a:r>
              <a:rPr b="1" lang="it-IT" sz="1000" spc="-1" strike="noStrike">
                <a:solidFill>
                  <a:srgbClr val="006699"/>
                </a:solidFill>
                <a:latin typeface="Arial"/>
                <a:ea typeface="Arial"/>
              </a:rPr>
              <a:t> </a:t>
            </a:r>
            <a:r>
              <a:rPr b="1" lang="it-IT" sz="1400" spc="-1" strike="noStrike">
                <a:solidFill>
                  <a:srgbClr val="006699"/>
                </a:solidFill>
                <a:latin typeface="Arial"/>
                <a:ea typeface="Arial"/>
              </a:rPr>
              <a:t>attraverso la compilazione del modulo sul sito web di A2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6699"/>
                </a:solidFill>
                <a:latin typeface="Arial"/>
                <a:ea typeface="Arial"/>
              </a:rPr>
              <a:t>La Gestione e Manutenzione Ordinaria e Straordinaria avvengono con interventi programmati e su chiamata</a:t>
            </a:r>
            <a:r>
              <a:rPr b="1" lang="it-IT" sz="1400" spc="-1" strike="noStrike" baseline="30000">
                <a:solidFill>
                  <a:srgbClr val="006699"/>
                </a:solidFill>
                <a:latin typeface="Arial"/>
                <a:ea typeface="Arial"/>
              </a:rPr>
              <a:t>(1)</a:t>
            </a:r>
            <a:r>
              <a:rPr b="1" lang="it-IT" sz="1400" spc="-1" strike="noStrike">
                <a:solidFill>
                  <a:srgbClr val="006699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6699"/>
                </a:solidFill>
                <a:latin typeface="Arial"/>
                <a:ea typeface="Arial"/>
              </a:rPr>
              <a:t>L'attività evolutiva è specifica del contratto e segue la pianificazione allegata alla relazione semestrale che rappresenta lo strumento di controll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6699"/>
                </a:solidFill>
                <a:latin typeface="Arial"/>
                <a:ea typeface="Arial"/>
              </a:rPr>
              <a:t>Gli impianti della P.I. sono di proprietà dell'A2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6699"/>
                </a:solidFill>
                <a:latin typeface="Arial"/>
                <a:ea typeface="Arial"/>
              </a:rPr>
              <a:t>La definizione degli SLA è effettuata sia in base al dettato contrattuale che alla prass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6699"/>
                </a:solidFill>
                <a:latin typeface="Arial"/>
                <a:ea typeface="Arial"/>
              </a:rPr>
              <a:t>Le riunioni periodiche non sono state effettuate in questo semestre, ma programmate in linea con lo schema del gruppo di lavo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6699"/>
                </a:solidFill>
                <a:latin typeface="Arial"/>
                <a:ea typeface="Arial"/>
              </a:rPr>
              <a:t>Deve esser definito anche il flusso di accesso alle informazioni anche attraverso specifiche modalit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6699"/>
                </a:solidFill>
                <a:latin typeface="Arial"/>
                <a:ea typeface="Arial"/>
              </a:rPr>
              <a:t>(1) L'attivazione della chiamata avviene tramite call center al n°800 933 301 gestito da A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0" y="11592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  <a:ea typeface="Arial"/>
              </a:rPr>
              <a:t>   </a:t>
            </a:r>
            <a:r>
              <a:rPr b="1" lang="it-IT" sz="2000" spc="-1" strike="noStrike">
                <a:solidFill>
                  <a:srgbClr val="006699"/>
                </a:solidFill>
                <a:latin typeface="Arial"/>
                <a:ea typeface="Arial"/>
              </a:rPr>
              <a:t>Preme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4"/>
          <p:cNvSpPr/>
          <p:nvPr/>
        </p:nvSpPr>
        <p:spPr>
          <a:xfrm>
            <a:off x="6480000" y="63360"/>
            <a:ext cx="2664000" cy="692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Illuminazione pub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8317080" y="6408720"/>
            <a:ext cx="696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09FC1-5641-4DFB-894B-F8C538F91EE6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ttangolo 1"/>
          <p:cNvSpPr/>
          <p:nvPr/>
        </p:nvSpPr>
        <p:spPr>
          <a:xfrm>
            <a:off x="625320" y="1677960"/>
            <a:ext cx="6902640" cy="655560"/>
          </a:xfrm>
          <a:prstGeom prst="rect">
            <a:avLst/>
          </a:prstGeom>
          <a:solidFill>
            <a:srgbClr val="b5b5b5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CasellaDiTesto 3"/>
          <p:cNvSpPr/>
          <p:nvPr/>
        </p:nvSpPr>
        <p:spPr>
          <a:xfrm>
            <a:off x="826920" y="1125360"/>
            <a:ext cx="7182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Premes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Ogget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Dati sul serviz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- Alleg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e 5"/>
          <p:cNvSpPr/>
          <p:nvPr/>
        </p:nvSpPr>
        <p:spPr>
          <a:xfrm>
            <a:off x="6588000" y="216000"/>
            <a:ext cx="2556000" cy="6919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</a:rPr>
              <a:t>Illuminazione pub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egnaposto numero diapositiva 2"/>
          <p:cNvSpPr/>
          <p:nvPr/>
        </p:nvSpPr>
        <p:spPr>
          <a:xfrm>
            <a:off x="8317080" y="6408720"/>
            <a:ext cx="696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2B40-23EB-4A08-B78F-3D2BC12E8C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08800" cy="5922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8532720" y="6408720"/>
            <a:ext cx="4651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0D079-6B62-49A9-8B24-49B29FAF2E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08000" y="404640"/>
          <a:ext cx="8877240" cy="6400800"/>
        </p:xfrm>
        <a:graphic>
          <a:graphicData uri="http://schemas.openxmlformats.org/drawingml/2006/table">
            <a:tbl>
              <a:tblPr/>
              <a:tblGrid>
                <a:gridCol w="1054080"/>
                <a:gridCol w="2089080"/>
                <a:gridCol w="1800360"/>
                <a:gridCol w="3933720"/>
              </a:tblGrid>
              <a:tr h="209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ATTIVITA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DESCRI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INTERVENT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N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programmato   /   chiama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Ordina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Gestione illum.ne pubblic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X                  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rapp. punto luce x abitante = 1/5 per A2A a BS e 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rapp. punto luce x abitante = 1/20 per Roma e Cremo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rapporto punto luce x abitante = 1/10 per Torino e Ge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Fornitura energia elett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         </a:t>
                      </a:r>
                      <a:r>
                        <a:rPr b="1" lang="it-IT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-               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67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Manutenzione          ordina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Line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                             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X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Guasti/furti/topi/minimi per cavi obsole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Sostegn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X                  </a:t>
                      </a:r>
                      <a:r>
                        <a:rPr b="1" lang="it-IT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verifica meccanica ed elettrica (1.000 pali/ann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-  Centri luminos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X                  X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Gruppi di comand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X                  </a:t>
                      </a:r>
                      <a:r>
                        <a:rPr b="1" lang="it-IT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Regolatori di flus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X                  </a:t>
                      </a:r>
                      <a:r>
                        <a:rPr b="1" lang="it-IT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20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Manuten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straordinar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Sostegn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X                  X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(sostegni circa 200/anno). Danneggiamenti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atti di vandalism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-  Centri luminos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it-IT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                 X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Obsolescenza/guast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buClr>
                          <a:srgbClr val="2da2bf"/>
                        </a:buClr>
                        <a:buSzPct val="68000"/>
                        <a:buFont typeface="Arial"/>
                        <a:buChar char="-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Gruppi di comand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it-IT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                 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Obsolescenza/gua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Regolatori di fluss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it-IT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                 X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Obsolescenza/gua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Pozzetti e chiusi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1" lang="it-IT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                 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Cedimento strutturale/insonorizz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Evolu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- Sostituzione punti luce in L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X                  </a:t>
                      </a:r>
                      <a:r>
                        <a:rPr b="1" lang="it-IT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36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36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99% (Restano le installazioni monumentali del Castello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36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Piazza Vittori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36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Verniciatura sostegn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X                  </a:t>
                      </a:r>
                      <a:r>
                        <a:rPr b="1" lang="it-IT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36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completa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Nuovi punti lu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X                  </a:t>
                      </a:r>
                      <a:r>
                        <a:rPr b="1" lang="it-IT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36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interventi eseguiti da vari Settori (Strade, Verde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36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Urbanistica, Piani di Zona, Mobilità …...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218440" cy="74448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8459640" y="6408720"/>
            <a:ext cx="5382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C8564-F773-40A0-9ABE-49818D9E14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08000" y="1052640"/>
          <a:ext cx="8893080" cy="4824360"/>
        </p:xfrm>
        <a:graphic>
          <a:graphicData uri="http://schemas.openxmlformats.org/drawingml/2006/table">
            <a:tbl>
              <a:tblPr/>
              <a:tblGrid>
                <a:gridCol w="2328840"/>
                <a:gridCol w="2190600"/>
                <a:gridCol w="4373640"/>
              </a:tblGrid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1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STRUTTURA ILLUMINA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1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ME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1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N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1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n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Microsoft YaHei"/>
                          <a:ea typeface="Arial"/>
                        </a:rPr>
                        <a:t>°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corpi luc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1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43.4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aggiornamento trimestrale - allegato 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1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(in 1 ann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9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n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Microsoft YaHei"/>
                          <a:ea typeface="Arial"/>
                        </a:rPr>
                        <a:t>°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ore di accensione gg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Accensione e spegnimento sono effettuati in corrispondenza de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tramonto e alba coma da tabella astronomica allegata. Il sistema è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dotato di fotocellula – allegato 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11 ore e 14 min (11,2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Regolazione Intensità d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illumin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Sono disponibili e da analizz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L'intensità luminosa è variabile in funzione della posizion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geografica dell'impianto e dell'orario di accensione (maggior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intensità all’accensione e allo spegnimento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n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Microsoft YaHei"/>
                          <a:ea typeface="Arial"/>
                        </a:rPr>
                        <a:t>°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ore di accensione annuo pu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luc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circa 4.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Il dato medio è reale dell'anno 2013 ottenuto dal crepuscolare de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sistema di telecontrollo (del 95%) della P.I. MAESTRO _ da contratt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è variabile  4.000/4.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n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Microsoft YaHei"/>
                          <a:ea typeface="Arial"/>
                        </a:rPr>
                        <a:t>°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ore di accensione tot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175 milioni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consumo di energia elettrica [ kw 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3.854.204  KWh (30.06.201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89 KWh/  punto luce medio semestr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89 KWh corrispondono a circa 21,73 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ttangolo 1"/>
          <p:cNvSpPr/>
          <p:nvPr/>
        </p:nvSpPr>
        <p:spPr>
          <a:xfrm>
            <a:off x="657360" y="2408400"/>
            <a:ext cx="6902280" cy="655560"/>
          </a:xfrm>
          <a:prstGeom prst="rect">
            <a:avLst/>
          </a:prstGeom>
          <a:solidFill>
            <a:srgbClr val="b5b5b5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CasellaDiTesto 3"/>
          <p:cNvSpPr/>
          <p:nvPr/>
        </p:nvSpPr>
        <p:spPr>
          <a:xfrm>
            <a:off x="826920" y="1146240"/>
            <a:ext cx="7182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Premes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Ogget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Dati sul serviz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- Alleg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e 5"/>
          <p:cNvSpPr/>
          <p:nvPr/>
        </p:nvSpPr>
        <p:spPr>
          <a:xfrm>
            <a:off x="6516720" y="216000"/>
            <a:ext cx="2627280" cy="6919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</a:rPr>
              <a:t>Illuminazione pub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egnaposto numero diapositiva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20B7-2662-42C4-B789-FEA14C8562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8532720" y="6408720"/>
            <a:ext cx="480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7FE34-5AEF-4D90-A6EC-494D70BEAC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58680"/>
            <a:ext cx="80452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6040" y="13644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</a:rPr>
              <a:t>Dati sul serviz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53960" y="765000"/>
            <a:ext cx="8064720" cy="44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spcBef>
                <a:spcPts val="1001"/>
              </a:spcBef>
              <a:buClr>
                <a:srgbClr val="006699"/>
              </a:buClr>
              <a:buSzPct val="68000"/>
              <a:buFont typeface="Arial"/>
              <a:buChar char="­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Breve sintesi inizi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SLA (livello del serviz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Controllo e pianificazione degli interventi evolut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Reclami:</a:t>
            </a:r>
            <a:r>
              <a:rPr b="1" i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 </a:t>
            </a:r>
            <a:r>
              <a:rPr b="0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Asse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Eventuali dati da enti di cont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Dati da conto economico: </a:t>
            </a:r>
            <a:r>
              <a:rPr b="0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Asse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Fattori evolutivi (affinamento e roll out):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avere tutti i dati (eliminando tutti gli n.d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verificare la fonte dei d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processo dei reclami (verifica provenienz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rodaggio dell’indicatore sinte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408720" y="71280"/>
            <a:ext cx="2732040" cy="652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</a:rPr>
              <a:t>Illuminazione pub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388360" y="6408720"/>
            <a:ext cx="62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2C154-AC91-4059-BEEF-0964759FEF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539640" y="0"/>
            <a:ext cx="80456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46400" y="136440"/>
            <a:ext cx="29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  <a:ea typeface="Arial"/>
              </a:rPr>
              <a:t>Dati sul servizio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179280" y="1989000"/>
          <a:ext cx="8856720" cy="4680000"/>
        </p:xfrm>
        <a:graphic>
          <a:graphicData uri="http://schemas.openxmlformats.org/drawingml/2006/table">
            <a:tbl>
              <a:tblPr/>
              <a:tblGrid>
                <a:gridCol w="2306880"/>
                <a:gridCol w="5038560"/>
                <a:gridCol w="1511280"/>
              </a:tblGrid>
              <a:tr h="1261800">
                <a:tc>
                  <a:txBody>
                    <a:bodyPr lIns="90000" rIns="90000" tIns="0" bIns="0" anchor="t">
                      <a:noAutofit/>
                    </a:bodyPr>
                    <a:p>
                      <a:pPr marL="10944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6699"/>
                          </a:solidFill>
                          <a:latin typeface="Arial"/>
                          <a:ea typeface="Microsoft YaHei"/>
                        </a:rPr>
                        <a:t>SL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6699"/>
                          </a:solidFill>
                          <a:latin typeface="Arial"/>
                          <a:ea typeface="Microsoft YaHei"/>
                        </a:rPr>
                        <a:t>(livello del servizi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10944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Nel periodo monitorato il servizio è stato in generale  eseguito com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previsto nel contratto. Il gestore opera con competenza a mantene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in efficienza l'impianto della pubblica illuminazione.  Al gesto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viene richiesta una rendicontazione puntuale associata a verifiche 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parte del Settore Strade  mediante sopralluoghi mensili a campion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109440">
                        <a:lnSpc>
                          <a:spcPct val="3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7280">
                <a:tc>
                  <a:txBody>
                    <a:bodyPr lIns="90000" rIns="90000" tIns="0" bIns="0" anchor="t">
                      <a:noAutofit/>
                    </a:bodyPr>
                    <a:p>
                      <a:pPr marL="10944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100000"/>
                        </a:lnSpc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6699"/>
                          </a:solidFill>
                          <a:latin typeface="Arial"/>
                          <a:ea typeface="Microsoft YaHei"/>
                        </a:rPr>
                        <a:t>Pianificazione degli interventi evolutiv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109440">
                        <a:lnSpc>
                          <a:spcPct val="3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Microsoft YaHei"/>
                        </a:rPr>
                        <a:t>Il programma di efficientamento energetico è ultimato, manc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Microsoft YaHei"/>
                        </a:rPr>
                        <a:t>l’illuminazione monumentale del Castello e Piazza Vittoria,  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Microsoft YaHei"/>
                        </a:rPr>
                        <a:t>concordare con la Soprintendenza BB.AA. il cui monitoraggio è svol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Microsoft YaHei"/>
                        </a:rPr>
                        <a:t>a campione mediante sopralluogh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Microsoft YaHei"/>
                        </a:rPr>
                        <a:t>I nuovi punti luce sono monitorati mediante interfaccia con altri Settor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Microsoft YaHei"/>
                        </a:rPr>
                        <a:t>con trasmissione al Settore Strade dell'atto di affidamento  ad A2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Microsoft YaHei"/>
                        </a:rPr>
                        <a:t>A collaudo il Settore Strade provvede a verificare la relativ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Microsoft YaHei"/>
                        </a:rPr>
                        <a:t>realizzazion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109440">
                        <a:lnSpc>
                          <a:spcPct val="3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2280">
                <a:tc>
                  <a:txBody>
                    <a:bodyPr lIns="90000" rIns="90000" tIns="0" bIns="0" anchor="t">
                      <a:noAutofit/>
                    </a:bodyPr>
                    <a:p>
                      <a:pPr marL="10944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6699"/>
                          </a:solidFill>
                          <a:latin typeface="Arial"/>
                          <a:ea typeface="Microsoft YaHei"/>
                        </a:rPr>
                        <a:t>Gestione recla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109440">
                        <a:lnSpc>
                          <a:spcPct val="3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100000"/>
                        </a:lnSpc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Microsoft YaHei"/>
                        </a:rPr>
                        <a:t>Sul portale di A2A è attivato un sito per reclami. Non risultano pervenuti reclami inerenti il servizio della pubblica illuminazion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109440">
                        <a:lnSpc>
                          <a:spcPct val="3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Oval 67"/>
          <p:cNvSpPr/>
          <p:nvPr/>
        </p:nvSpPr>
        <p:spPr>
          <a:xfrm>
            <a:off x="6443640" y="0"/>
            <a:ext cx="2635200" cy="6523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Pubblica Illumin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9"/>
          <p:cNvSpPr/>
          <p:nvPr/>
        </p:nvSpPr>
        <p:spPr>
          <a:xfrm>
            <a:off x="108000" y="652320"/>
            <a:ext cx="58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      </a:t>
            </a: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Sintesi dei risultati ottenu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egnaposto numero diapositiva 1"/>
          <p:cNvSpPr/>
          <p:nvPr/>
        </p:nvSpPr>
        <p:spPr>
          <a:xfrm>
            <a:off x="8459640" y="6408720"/>
            <a:ext cx="5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EF1B-63CE-4A10-9773-26BB1A09C0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596360" y="5807160"/>
            <a:ext cx="22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747280" y="5807160"/>
            <a:ext cx="22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596360" y="414972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748720" y="4149720"/>
            <a:ext cx="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8393040" y="4005360"/>
            <a:ext cx="177840" cy="288720"/>
          </a:xfrm>
          <a:prstGeom prst="line">
            <a:avLst/>
          </a:prstGeom>
          <a:ln cap="sq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812000" y="3716280"/>
            <a:ext cx="1005120" cy="1123920"/>
          </a:xfrm>
          <a:custGeom>
            <a:avLst/>
            <a:gdLst>
              <a:gd name="textAreaLeft" fmla="*/ 0 w 1005120"/>
              <a:gd name="textAreaRight" fmla="*/ 1005480 w 1005120"/>
              <a:gd name="textAreaTop" fmla="*/ 0 h 1123920"/>
              <a:gd name="textAreaBottom" fmla="*/ 420120 h 1123920"/>
            </a:gdLst>
            <a:ahLst/>
            <a:rect l="textAreaLeft" t="textAreaTop" r="textAreaRight" b="textAreaBottom"/>
            <a:pathLst>
              <a:path w="21600" h="21600">
                <a:moveTo>
                  <a:pt x="2517" y="11072"/>
                </a:moveTo>
                <a:cubicBezTo>
                  <a:pt x="2514" y="10982"/>
                  <a:pt x="2513" y="10891"/>
                  <a:pt x="2513" y="10800"/>
                </a:cubicBezTo>
                <a:cubicBezTo>
                  <a:pt x="2513" y="6223"/>
                  <a:pt x="6223" y="2513"/>
                  <a:pt x="10800" y="2513"/>
                </a:cubicBezTo>
                <a:cubicBezTo>
                  <a:pt x="15376" y="2513"/>
                  <a:pt x="19087" y="6223"/>
                  <a:pt x="19087" y="10800"/>
                </a:cubicBezTo>
                <a:cubicBezTo>
                  <a:pt x="19087" y="10891"/>
                  <a:pt x="19085" y="10982"/>
                  <a:pt x="19082" y="11072"/>
                </a:cubicBezTo>
                <a:lnTo>
                  <a:pt x="21594" y="11155"/>
                </a:lnTo>
                <a:cubicBezTo>
                  <a:pt x="21598" y="11037"/>
                  <a:pt x="21600" y="10918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918"/>
                  <a:pt x="1" y="11037"/>
                  <a:pt x="5" y="11155"/>
                </a:cubicBezTo>
                <a:lnTo>
                  <a:pt x="2517" y="11072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108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4140360" y="260280"/>
            <a:ext cx="1643040" cy="1390680"/>
            <a:chOff x="4140360" y="260280"/>
            <a:chExt cx="1643040" cy="1390680"/>
          </a:xfrm>
        </p:grpSpPr>
        <p:sp>
          <p:nvSpPr>
            <p:cNvPr id="409" name=""/>
            <p:cNvSpPr/>
            <p:nvPr/>
          </p:nvSpPr>
          <p:spPr>
            <a:xfrm>
              <a:off x="4140360" y="260280"/>
              <a:ext cx="1643040" cy="96840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4197240" y="416160"/>
              <a:ext cx="1530360" cy="1234800"/>
              <a:chOff x="4197240" y="416160"/>
              <a:chExt cx="1530360" cy="1234800"/>
            </a:xfrm>
          </p:grpSpPr>
          <p:sp>
            <p:nvSpPr>
              <p:cNvPr id="411" name=""/>
              <p:cNvSpPr/>
              <p:nvPr/>
            </p:nvSpPr>
            <p:spPr>
              <a:xfrm>
                <a:off x="4197240" y="846360"/>
                <a:ext cx="24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480280" y="862200"/>
                <a:ext cx="24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4964040" y="738000"/>
                <a:ext cx="330480" cy="29844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386240" y="416160"/>
                <a:ext cx="1125720" cy="1234800"/>
              </a:xfrm>
              <a:custGeom>
                <a:avLst/>
                <a:gdLst>
                  <a:gd name="textAreaLeft" fmla="*/ 0 w 1125720"/>
                  <a:gd name="textAreaRight" fmla="*/ 1126080 w 1125720"/>
                  <a:gd name="textAreaTop" fmla="*/ 0 h 1234800"/>
                  <a:gd name="textAreaBottom" fmla="*/ 461520 h 123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517" y="11072"/>
                    </a:moveTo>
                    <a:cubicBezTo>
                      <a:pt x="2514" y="10982"/>
                      <a:pt x="2513" y="10891"/>
                      <a:pt x="2513" y="10800"/>
                    </a:cubicBezTo>
                    <a:cubicBezTo>
                      <a:pt x="2513" y="6223"/>
                      <a:pt x="6223" y="2513"/>
                      <a:pt x="10800" y="2513"/>
                    </a:cubicBezTo>
                    <a:cubicBezTo>
                      <a:pt x="15376" y="2513"/>
                      <a:pt x="19087" y="6223"/>
                      <a:pt x="19087" y="10800"/>
                    </a:cubicBezTo>
                    <a:cubicBezTo>
                      <a:pt x="19087" y="10891"/>
                      <a:pt x="19085" y="10982"/>
                      <a:pt x="19082" y="11072"/>
                    </a:cubicBezTo>
                    <a:lnTo>
                      <a:pt x="21594" y="11155"/>
                    </a:lnTo>
                    <a:cubicBezTo>
                      <a:pt x="21598" y="11037"/>
                      <a:pt x="21600" y="10918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0918"/>
                      <a:pt x="1" y="11037"/>
                      <a:pt x="5" y="11155"/>
                    </a:cubicBezTo>
                    <a:lnTo>
                      <a:pt x="2517" y="110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100000">
                    <a:srgbClr val="ff0000"/>
                  </a:gs>
                </a:gsLst>
                <a:lin ang="10800000"/>
              </a:gra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5" name=""/>
          <p:cNvSpPr/>
          <p:nvPr/>
        </p:nvSpPr>
        <p:spPr>
          <a:xfrm flipV="1">
            <a:off x="8244000" y="5950080"/>
            <a:ext cx="431640" cy="1440"/>
          </a:xfrm>
          <a:prstGeom prst="line">
            <a:avLst/>
          </a:prstGeom>
          <a:ln cap="sq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812000" y="5373720"/>
            <a:ext cx="1033560" cy="1125360"/>
          </a:xfrm>
          <a:custGeom>
            <a:avLst/>
            <a:gdLst>
              <a:gd name="textAreaLeft" fmla="*/ 0 w 1033560"/>
              <a:gd name="textAreaRight" fmla="*/ 1033560 w 1033560"/>
              <a:gd name="textAreaTop" fmla="*/ 0 h 1125360"/>
              <a:gd name="textAreaBottom" fmla="*/ 420480 h 1125360"/>
            </a:gdLst>
            <a:ahLst/>
            <a:rect l="textAreaLeft" t="textAreaTop" r="textAreaRight" b="textAreaBottom"/>
            <a:pathLst>
              <a:path w="21600" h="21600">
                <a:moveTo>
                  <a:pt x="2517" y="11072"/>
                </a:moveTo>
                <a:cubicBezTo>
                  <a:pt x="2514" y="10982"/>
                  <a:pt x="2513" y="10891"/>
                  <a:pt x="2513" y="10800"/>
                </a:cubicBezTo>
                <a:cubicBezTo>
                  <a:pt x="2513" y="6223"/>
                  <a:pt x="6223" y="2513"/>
                  <a:pt x="10800" y="2513"/>
                </a:cubicBezTo>
                <a:cubicBezTo>
                  <a:pt x="15376" y="2513"/>
                  <a:pt x="19087" y="6223"/>
                  <a:pt x="19087" y="10800"/>
                </a:cubicBezTo>
                <a:cubicBezTo>
                  <a:pt x="19087" y="10891"/>
                  <a:pt x="19085" y="10982"/>
                  <a:pt x="19082" y="11072"/>
                </a:cubicBezTo>
                <a:lnTo>
                  <a:pt x="21594" y="11155"/>
                </a:lnTo>
                <a:cubicBezTo>
                  <a:pt x="21598" y="11037"/>
                  <a:pt x="21600" y="10918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918"/>
                  <a:pt x="1" y="11037"/>
                  <a:pt x="5" y="11155"/>
                </a:cubicBezTo>
                <a:lnTo>
                  <a:pt x="2517" y="11072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108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867280" y="10526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4/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459640" y="602280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5/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532720" y="28526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4/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550720" y="43639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4/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179280" y="1628640"/>
          <a:ext cx="8856720" cy="376200"/>
        </p:xfrm>
        <a:graphic>
          <a:graphicData uri="http://schemas.openxmlformats.org/drawingml/2006/table">
            <a:tbl>
              <a:tblPr/>
              <a:tblGrid>
                <a:gridCol w="2313000"/>
                <a:gridCol w="4989600"/>
                <a:gridCol w="155412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RGO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INTE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IUDIZ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2" name=""/>
          <p:cNvSpPr/>
          <p:nvPr/>
        </p:nvSpPr>
        <p:spPr>
          <a:xfrm>
            <a:off x="7596360" y="2637000"/>
            <a:ext cx="22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748720" y="2708280"/>
            <a:ext cx="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8317080" y="2565000"/>
            <a:ext cx="287280" cy="219240"/>
          </a:xfrm>
          <a:prstGeom prst="line">
            <a:avLst/>
          </a:prstGeom>
          <a:ln cap="sq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812000" y="2205000"/>
            <a:ext cx="1106640" cy="1125720"/>
          </a:xfrm>
          <a:custGeom>
            <a:avLst/>
            <a:gdLst>
              <a:gd name="textAreaLeft" fmla="*/ 0 w 1106640"/>
              <a:gd name="textAreaRight" fmla="*/ 1107000 w 1106640"/>
              <a:gd name="textAreaTop" fmla="*/ 0 h 1125720"/>
              <a:gd name="textAreaBottom" fmla="*/ 420840 h 1125720"/>
            </a:gdLst>
            <a:ahLst/>
            <a:rect l="textAreaLeft" t="textAreaTop" r="textAreaRight" b="textAreaBottom"/>
            <a:pathLst>
              <a:path w="21600" h="21600">
                <a:moveTo>
                  <a:pt x="2517" y="11072"/>
                </a:moveTo>
                <a:cubicBezTo>
                  <a:pt x="2514" y="10982"/>
                  <a:pt x="2513" y="10891"/>
                  <a:pt x="2513" y="10800"/>
                </a:cubicBezTo>
                <a:cubicBezTo>
                  <a:pt x="2513" y="6223"/>
                  <a:pt x="6223" y="2513"/>
                  <a:pt x="10800" y="2513"/>
                </a:cubicBezTo>
                <a:cubicBezTo>
                  <a:pt x="15376" y="2513"/>
                  <a:pt x="19087" y="6223"/>
                  <a:pt x="19087" y="10800"/>
                </a:cubicBezTo>
                <a:cubicBezTo>
                  <a:pt x="19087" y="10891"/>
                  <a:pt x="19085" y="10982"/>
                  <a:pt x="19082" y="11072"/>
                </a:cubicBezTo>
                <a:lnTo>
                  <a:pt x="21594" y="11155"/>
                </a:lnTo>
                <a:cubicBezTo>
                  <a:pt x="21598" y="11037"/>
                  <a:pt x="21600" y="10918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918"/>
                  <a:pt x="1" y="11037"/>
                  <a:pt x="5" y="11155"/>
                </a:cubicBezTo>
                <a:lnTo>
                  <a:pt x="2517" y="11072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108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9T09:43:07Z</dcterms:created>
  <dc:creator>Galuppini Monica</dc:creator>
  <dc:description/>
  <dc:language>en-US</dc:language>
  <cp:lastModifiedBy>Fsimonetti</cp:lastModifiedBy>
  <cp:lastPrinted>2014-10-21T07:34:53Z</cp:lastPrinted>
  <dcterms:modified xsi:type="dcterms:W3CDTF">2019-02-07T16:11:50Z</dcterms:modified>
  <cp:revision>1687</cp:revision>
  <dc:subject/>
  <dc:title>Presentazione standard di PowerPoint</dc:title>
</cp:coreProperties>
</file>